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Learning Ruby - 1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Let's Learn Ruby AQ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 Quickly As Possibl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a =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a = "The Ruby Programming Languag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a = 1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What About Variable Typ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uby So Far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9123480" cy="50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thing - numbers, strings, data structures, etc. - is a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hods are invoked using the dot (".")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riables are dynamically created a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raditional notion of a variable's "type" is not something the Ruby programmer concerns themselves with (too mu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unning Ruby Co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n the interactive ruby shell –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n ruby from the command line –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u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heba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! line on GNU/Lin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file associ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n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2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22 /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22.0 /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3 *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3 **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big_number = 1_000_000_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Simple Ruby Number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Math.sqrt( 9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Math.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9.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27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3.times { print "Ho! "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1.upto( 5 ) { |i| puts i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uby Number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one = "1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two = "2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one + 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Integer( one ) + Integer( two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12.to_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rint "Happy ", 12.to_s, "th Birthday!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"Happy ", 12.to_s, "th Birthday!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"Happy " + 12.to_s + "th Birthday!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Number Conver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a1 = "this is a string\n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a2 = 'and so is this\n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rint a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rint 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answer =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"The meaning of life is #{answer}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ts "There's #{24*60*60} seconds in a da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uby Str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9220320" cy="53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formatted_text = &lt;&lt;END_OF_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Let us turn our thoughts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To Martin Luther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And recognize that there are ties between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All men and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Living on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Ties of hope and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ister and brothe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That we are boun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In our desire to see the world be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A place in which our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Can grow free and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_OF_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rint formatted_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uby Here Doc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53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formatted_text.methods.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formatted_text.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formatted_text.down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formatted_text.up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formatted_text.capitali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formatted_text.re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formatted_text.crypt( "sh"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formatted_text.emp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uby Str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ong_lines = formatted_text.to_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rint song_lines[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rint song_lines[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rint song_lines[9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rint song_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rint formatted_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ong_lines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formatted_text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Working with Ruby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Barry</cp:lastModifiedBy>
  <cp:revision>0</cp:revision>
  <dc:subject/>
  <dc:title/>
</cp:coreProperties>
</file>