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0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iting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reinvent base classes - use the built-in's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 class behaviours using the &lt;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 to Chapter 27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an extensiv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's Class Libr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43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n ordered collection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gn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really big integ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nd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remembering the context of some executa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he grand-daddy of all n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ar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 mixin that allows objects to be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nu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llows for non-local returns from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Ruby Cla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1920" y="1884240"/>
            <a:ext cx="9156600" cy="56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orking with directories and the underlying file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umer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 mixin that allows for traversal, searching and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rrn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gives access to the OS's error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lets your class raise and rescue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lse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s used to represent false (what else could it be used for?!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llows for classes to access files within the file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ven More Ruby Cla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::St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ccess stuff abou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est certain things abou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 native machine word int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represents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for fiddling with 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n collection of name/value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Yet More Ruby Cla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04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ho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nput/outpu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ncluded in every class, lets you get at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rsh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converts Ruby object to/from byte-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ch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used with reg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e all hate this one, don't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mucking about with objec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? Here They Are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72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 collection of methods and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il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he class that implements 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base class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g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he grand-mammy of all classes in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Sp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more interaction with the garbage col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binding blocks of code to loc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t Keeps On Coming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882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he manipulation of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::G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nteracting with the underlying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::Stat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nformation on running/terminate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::Sy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ystem call-level access to the O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::U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not unlik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::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2920" y="6112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End Is In Sight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43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upporting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ex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OO-style regex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orking with signals from th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orking with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bundling attributes together in a convenien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::Tm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nformation on process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:support :for :those :cool :little :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 Lied - There's Still Mo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266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a thread of program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adGro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tracking a number of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working with dates and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ue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s used to represent true (se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lse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boundMetho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not associating methods with objects (wei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