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Grabbag – A Bunch of Other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's All This </a:t>
            </a:r>
            <a:r>
              <a:rPr b="1" lang="en-GB" sz="4400" spc="-1" strike="noStrike">
                <a:solidFill>
                  <a:srgbClr val="333333"/>
                </a:solidFill>
                <a:latin typeface="Courier 10 Pitch"/>
              </a:rPr>
              <a:t>then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724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c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word is (sometimes)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expression is on the same line as the condition, the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it isn't, well ... it isn'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replaced with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en used on the same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album_title = cas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69 : "Led Zeppelin and Led Zeppelin I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0 : "Led Zeppelin II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oop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133360"/>
            <a:ext cx="933120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supports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whi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unt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also supports iterators (as we've already seen) which are just like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ps also support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brea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nex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re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r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's also a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loo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oop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This code will execute forever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re's Much More to Rub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4076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pter 22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concise reference to the Ruby Language ... take the time to browse these 45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fact, pick up a copy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keep it by your side while programming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remember ... Ruby is known as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 programming langu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t's quite OK to have fun while programming (imagine tha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 Naming Conven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gram taken from page 17 of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PickAx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5200" y="2608200"/>
            <a:ext cx="938196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perator Express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7760" y="19411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gram taken from page 339 of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Pickax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1840" y="2243160"/>
            <a:ext cx="550080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date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ls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ls`.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ls`.split[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uptime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ls rubbbbish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`ls /etc/passwd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un with `backticks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emp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 =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, b = b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wapping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88280" cy="51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song.artist == "Crowded House"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.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lsif song.artist == "Snow Patrol"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.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.dele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unless song.artist == "Led Zeppeli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.turn_up!(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.turn_down!(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un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10 Pitch"/>
              </a:rPr>
              <a:t>song.artist == "Led Zeppelin" ? song.turn_down!( 20 ) : song.turn_up!( 20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33480"/>
            <a:ext cx="8607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Courier 10 Pitch"/>
                <a:ea typeface="Luxi Sans"/>
              </a:rPr>
              <a:t>if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 and </a:t>
            </a:r>
            <a:r>
              <a:rPr b="1" lang="en-GB" sz="4400" spc="-1" strike="noStrike">
                <a:solidFill>
                  <a:srgbClr val="333333"/>
                </a:solidFill>
                <a:latin typeface="Courier 10 Pitch"/>
                <a:ea typeface="Luxi Sans"/>
              </a:rPr>
              <a:t>un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75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lead_singer =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 if song.artist == "Crowded Hou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Neil Fin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lsif song.artist == "Led Zeppeli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Robert Plan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lsif song.artist == "The Beatl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John, Paul, John or Ring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unknow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33480"/>
            <a:ext cx="8607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Courier 10 Pitch"/>
                <a:ea typeface="Luxi Sans"/>
              </a:rPr>
              <a:t>if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 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076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# Borrowed from page 98 of The PickAx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le.foreach( "/etc/fstab" ) do |line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Skip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next if line =~ /^#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Parse line if it's not emp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arse( line ) unless line =~ /^$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tatement Qua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album_title = cas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69 then "Led Zeppelin and Led Zeppelin I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0 then "Led Zeppelin II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1 then "(unnamed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3 then "Houses of the Hol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5 then "Physical Graffit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6 then "Presence and The Song Remains The Sam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when 1979 then "In Through The Out Do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lse "unknow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Case for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