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3944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490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4932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5920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3944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4932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5920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 algn="ctr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39440" y="62676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-216000" algn="ctr">
              <a:lnSpc>
                <a:spcPct val="10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490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04640" y="1893960"/>
            <a:ext cx="9674280" cy="5665680"/>
          </a:xfrm>
          <a:prstGeom prst="roundRect">
            <a:avLst>
              <a:gd name="adj" fmla="val 28"/>
            </a:avLst>
          </a:prstGeom>
          <a:solidFill>
            <a:srgbClr val="dddddd"/>
          </a:solidFill>
          <a:ln w="936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238140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116856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104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104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104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104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104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104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104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Learning Ruby - 12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31640"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Luxi Sans"/>
              </a:rPr>
              <a:t>Grabbag II - The Grabbag Strikes Back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More ... Ruby So Far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16000" indent="-216000">
              <a:lnSpc>
                <a:spcPct val="104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e really sure to ignore the code on that last slide!!!!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49000" y="2101680"/>
            <a:ext cx="938052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10 Pitch"/>
              </a:rPr>
              <a:t>load "~/ruby/pcap/Ethernet.rb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10 Pitch"/>
              </a:rPr>
              <a:t>packet = Ethernet.new( "77777733333399Some Data"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10 Pitch"/>
              </a:rPr>
              <a:t>packet.des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10 Pitch"/>
              </a:rPr>
              <a:t>packet.sr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10 Pitch"/>
              </a:rPr>
              <a:t>packet.type_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10 Pitch"/>
              </a:rPr>
              <a:t>packet.paylo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10 Pitch"/>
              </a:rPr>
              <a:t>packet.ins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10 Pitch"/>
              </a:rPr>
              <a:t>packet.methods.s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39800" y="910080"/>
            <a:ext cx="860724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  <a:ea typeface="Luxi Sans"/>
              </a:rPr>
              <a:t>Testing Code in ir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7240" cy="533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10 Pitch"/>
              </a:rPr>
              <a:t>class Per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7000"/>
              </a:lnSpc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10 Pitch"/>
              </a:rPr>
              <a:t>attr_reader :name, :dob, :nat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7000"/>
              </a:lnSpc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10 Pitch"/>
              </a:rPr>
              <a:t>attr_writer :name, :dob, :nat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0">
              <a:lnSpc>
                <a:spcPct val="97000"/>
              </a:lnSpc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10 Pitch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10 Pitch"/>
              </a:rPr>
              <a:t>class Per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7000"/>
              </a:lnSpc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10 Pitch"/>
              </a:rPr>
              <a:t>attr_accessor :name, :dob, :nat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0">
              <a:lnSpc>
                <a:spcPct val="97000"/>
              </a:lnSpc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10 Pitch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39800" y="910080"/>
            <a:ext cx="860724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  <a:ea typeface="Luxi Sans"/>
              </a:rPr>
              <a:t>Less evenmoreless.r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39800" y="2101680"/>
            <a:ext cx="922032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10 Pitch"/>
              </a:rPr>
              <a:t>class RockSong &lt; So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7000"/>
              </a:lnSpc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10 Pitch"/>
              </a:rPr>
              <a:t>def initialize( name, artist, solo, length 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0">
              <a:lnSpc>
                <a:spcPct val="97000"/>
              </a:lnSpc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10 Pitch"/>
              </a:rPr>
              <a:t>super( name, artist ) # Initialise the pare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0">
              <a:lnSpc>
                <a:spcPct val="97000"/>
              </a:lnSpc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10 Pitch"/>
              </a:rPr>
              <a:t>@solo = sol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0">
              <a:lnSpc>
                <a:spcPct val="97000"/>
              </a:lnSpc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10 Pitch"/>
              </a:rPr>
              <a:t>@length = lengt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7000"/>
              </a:lnSpc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10 Pitch"/>
              </a:rPr>
              <a:t>end # of initializ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10 Pitch"/>
              </a:rPr>
              <a:t>end # of RockSo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39800" y="910080"/>
            <a:ext cx="860724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  <a:ea typeface="Luxi Sans"/>
              </a:rPr>
              <a:t>Super Inherita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39800" y="2101680"/>
            <a:ext cx="92534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10 Pitch"/>
              </a:rPr>
              <a:t>def addemall( first, *rest 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7000"/>
              </a:lnSpc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10 Pitch"/>
              </a:rPr>
              <a:t>rest.each { |r| first = first + r }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7000"/>
              </a:lnSpc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10 Pitch"/>
              </a:rPr>
              <a:t>fir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10 Pitch"/>
              </a:rPr>
              <a:t>end # of addemal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10 Pitch"/>
              </a:rPr>
              <a:t>a = addemall( 1, 2, 3, 4, 5 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10 Pitch"/>
              </a:rPr>
              <a:t>b = [1, 2, 3, 4, 5].inject(0) { |sum, num| sum + num }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39800" y="910080"/>
            <a:ext cx="860724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  <a:ea typeface="Luxi Sans"/>
              </a:rPr>
              <a:t>Don't addemall, </a:t>
            </a:r>
            <a:r>
              <a:rPr b="1" lang="en-GB" sz="4400" spc="-1" strike="noStrike">
                <a:solidFill>
                  <a:srgbClr val="333333"/>
                </a:solidFill>
                <a:latin typeface="Courier 10 Pitch"/>
                <a:ea typeface="Luxi Sans"/>
              </a:rPr>
              <a:t>inject</a:t>
            </a:r>
            <a:r>
              <a:rPr b="1" lang="en-GB" sz="4400" spc="-1" strike="noStrike">
                <a:solidFill>
                  <a:srgbClr val="333333"/>
                </a:solidFill>
                <a:latin typeface="Arial"/>
                <a:ea typeface="Luxi Sans"/>
              </a:rPr>
              <a:t> 'em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15880" y="2052720"/>
            <a:ext cx="9563040" cy="50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10 Pitch"/>
              </a:rPr>
              <a:t>def find_person( params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7000"/>
              </a:lnSpc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10 Pitch"/>
              </a:rPr>
              <a:t>name = params[:name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7000"/>
              </a:lnSpc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10 Pitch"/>
              </a:rPr>
              <a:t>dob = params[:dob] || "unknown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7000"/>
              </a:lnSpc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10 Pitch"/>
              </a:rPr>
              <a:t># Do yer findin' ... then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7000"/>
              </a:lnSpc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10 Pitch"/>
              </a:rPr>
              <a:t>puts name + ', born: ' + dob + '.'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10 Pitch"/>
              </a:rPr>
              <a:t>end # of find_pers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10 Pitch"/>
              </a:rPr>
              <a:t>find_person( :name =&gt; 'John Doe', :dob =&gt; '24/03/1961'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10 Pitch"/>
              </a:rPr>
              <a:t>find_person( :dob =&gt; '12/12/1912', :name =&gt; 'Jane Jones'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10 Pitch"/>
              </a:rPr>
              <a:t>find_person( :name =&gt; 'Harry Holt'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39800" y="910080"/>
            <a:ext cx="860724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  <a:ea typeface="Luxi Sans"/>
              </a:rPr>
              <a:t>Named Argu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Courier 10 Pitch"/>
              </a:rPr>
              <a:t>++</a:t>
            </a: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 and </a:t>
            </a:r>
            <a:r>
              <a:rPr b="1" lang="en-GB" sz="4400" spc="-1" strike="noStrike">
                <a:solidFill>
                  <a:srgbClr val="333333"/>
                </a:solidFill>
                <a:latin typeface="Courier 10 Pitch"/>
              </a:rPr>
              <a:t>--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39800" y="2101680"/>
            <a:ext cx="922032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16000" indent="-216000">
              <a:lnSpc>
                <a:spcPct val="104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'familiar' </a:t>
            </a:r>
            <a:r>
              <a:rPr b="0" lang="en-GB" sz="3200" spc="-1" strike="noStrike">
                <a:solidFill>
                  <a:srgbClr val="000000"/>
                </a:solidFill>
                <a:latin typeface="Courier 10 Pitch"/>
              </a:rPr>
              <a:t>++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GB" sz="3200" spc="-1" strike="noStrike">
                <a:solidFill>
                  <a:srgbClr val="000000"/>
                </a:solidFill>
                <a:latin typeface="Courier 10 Pitch"/>
              </a:rPr>
              <a:t>--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operators are NOT in Ru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4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en you want to add 1 to a, use </a:t>
            </a:r>
            <a:r>
              <a:rPr b="1" lang="en-GB" sz="3200" spc="-1" strike="noStrike">
                <a:solidFill>
                  <a:srgbClr val="000000"/>
                </a:solidFill>
                <a:latin typeface="Courier 10 Pitch"/>
              </a:rPr>
              <a:t>a +=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4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en you want to take 1 from b, use </a:t>
            </a:r>
            <a:r>
              <a:rPr b="1" lang="en-GB" sz="3200" spc="-1" strike="noStrike">
                <a:solidFill>
                  <a:srgbClr val="000000"/>
                </a:solidFill>
                <a:latin typeface="Courier 10 Pitch"/>
              </a:rPr>
              <a:t>b -=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4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oo! Hoo! There's no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autoincremen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autodecremen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in Rub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Things to Remember!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9172440" cy="512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16000" indent="-216000">
              <a:lnSpc>
                <a:spcPct val="104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Variables hold references to objects, not the objects themselve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4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Variables start with a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lowercas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letter, Classes and Constants start with an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UPPERCAS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let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4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riting code that depends on the existence of the default variable (</a:t>
            </a:r>
            <a:r>
              <a:rPr b="1" lang="en-GB" sz="3200" spc="-1" strike="noStrike">
                <a:solidFill>
                  <a:srgbClr val="000000"/>
                </a:solidFill>
                <a:latin typeface="Courier 10 Pitch"/>
              </a:rPr>
              <a:t>$_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) is frowned up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4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Qualifying a loop or condition (to quote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The PickAx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) is a path that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"leads to the gates of madness"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7240" cy="497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10 Pitch"/>
              </a:rPr>
              <a:t>i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10 Pitch"/>
              </a:rPr>
              <a:t>while i &lt; 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7000"/>
              </a:lnSpc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10 Pitch"/>
              </a:rPr>
              <a:t>puts 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7000"/>
              </a:lnSpc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10 Pitch"/>
              </a:rPr>
              <a:t>i +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10 Pitch"/>
              </a:rPr>
              <a:t>end unless i == 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10 Pitch"/>
              </a:rPr>
              <a:t>name = 'Paul'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10 Pitch"/>
              </a:rPr>
              <a:t>if name == "Paul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7000"/>
              </a:lnSpc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10 Pitch"/>
              </a:rPr>
              <a:t>puts 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10 Pitch"/>
              </a:rPr>
              <a:t>end unless name == "Paul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39800" y="910080"/>
            <a:ext cx="860724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  <a:ea typeface="Luxi Sans"/>
              </a:rPr>
              <a:t>The Gates of Madness!!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Barry</cp:lastModifiedBy>
  <cp:revision>0</cp:revision>
  <dc:subject/>
  <dc:title/>
</cp:coreProperties>
</file>