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-216000" algn="ctr"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4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104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Learning Ruby - 13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abbag III - The Return of the Grabb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When Things Go Wrong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39800" y="1980720"/>
            <a:ext cx="9237600" cy="558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our 13</a:t>
            </a:r>
            <a:r>
              <a:rPr b="0" lang="en-GB" sz="3200" spc="-1" strike="noStrike" baseline="33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et of Ruby slides ... something's bound to go wro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uby can help with an integrated exception handling mech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ust remember the sequence: </a:t>
            </a:r>
            <a:r>
              <a:rPr b="1" lang="en-GB" sz="3200" spc="-1" strike="noStrike">
                <a:solidFill>
                  <a:srgbClr val="000000"/>
                </a:solidFill>
                <a:latin typeface="Courier 10 Pitch"/>
              </a:rPr>
              <a:t>begi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... </a:t>
            </a:r>
            <a:r>
              <a:rPr b="1" lang="en-GB" sz="3200" spc="-1" strike="noStrike">
                <a:solidFill>
                  <a:srgbClr val="000000"/>
                </a:solidFill>
                <a:latin typeface="Courier 10 Pitch"/>
              </a:rPr>
              <a:t>rescu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... </a:t>
            </a:r>
            <a:r>
              <a:rPr b="1" lang="en-GB" sz="3200" spc="-1" strike="noStrike">
                <a:solidFill>
                  <a:srgbClr val="000000"/>
                </a:solidFill>
                <a:latin typeface="Courier 10 Pitch"/>
              </a:rPr>
              <a:t>ensur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... </a:t>
            </a:r>
            <a:r>
              <a:rPr b="1" lang="en-GB" sz="3200" spc="-1" strike="noStrike">
                <a:solidFill>
                  <a:srgbClr val="000000"/>
                </a:solidFill>
                <a:latin typeface="Courier 10 Pitch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re's also </a:t>
            </a:r>
            <a:r>
              <a:rPr b="1" lang="en-GB" sz="3200" spc="-1" strike="noStrike">
                <a:solidFill>
                  <a:srgbClr val="000000"/>
                </a:solidFill>
                <a:latin typeface="Courier 10 Pitch"/>
              </a:rPr>
              <a:t>catc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3200" spc="-1" strike="noStrike">
                <a:solidFill>
                  <a:srgbClr val="000000"/>
                </a:solidFill>
                <a:latin typeface="Courier 10 Pitch"/>
              </a:rPr>
              <a:t>throw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but not as you know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A Missing Exampl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6760" y="1923840"/>
            <a:ext cx="9204120" cy="55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10 Pitch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10 Pitch"/>
              </a:rPr>
              <a:t>file = File.open( 'missing.txt', "r"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10 Pitch"/>
              </a:rPr>
              <a:t>while data = file.ge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10 Pitch"/>
              </a:rPr>
              <a:t>puts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10 Pitch"/>
              </a:rPr>
              <a:t>end # of whi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10 Pitch"/>
              </a:rPr>
              <a:t>rescue SystemCallErr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10 Pitch"/>
              </a:rPr>
              <a:t>puts "Problems with file: #{$!} ... does it exist?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10 Pitch"/>
              </a:rPr>
              <a:t>ens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10 Pitch"/>
              </a:rPr>
              <a:t>file.close unless file.nil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10 Pitch"/>
              </a:rPr>
              <a:t>end # of begi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Only Jok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923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10 Pitch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10 Pitch"/>
              </a:rPr>
              <a:t>eval some_c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10 Pitch"/>
              </a:rPr>
              <a:t>rescue SyntaxError, NameError =&gt; sillyms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10 Pitch"/>
              </a:rPr>
              <a:t>print "Your code does not compile: " + sillyms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10 Pitch"/>
              </a:rPr>
              <a:t>rescue StandardError, NameError =&gt; badsm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10 Pitch"/>
              </a:rPr>
              <a:t>print "Your running code has errors: " + badms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10 Pitch"/>
              </a:rPr>
              <a:t>end # of begi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Not using $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7240" cy="53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if some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if another_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if something_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if one_last_ch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if oh_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# Get me outta he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throw :ph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end # of i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end # of i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end # of i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end # of i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end # of i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catch :ph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# Code continues "normally" 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Catch That Throw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More ... Ruby So Far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91407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n bad things can happen, be sure to protect your code with an appropriate exception handling mech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member, it's simpl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10 Pitch"/>
              </a:rPr>
              <a:t>    </a:t>
            </a:r>
            <a:r>
              <a:rPr b="1" lang="en-GB" sz="2800" spc="-1" strike="noStrike">
                <a:solidFill>
                  <a:srgbClr val="000000"/>
                </a:solidFill>
                <a:latin typeface="Courier 10 Pitch"/>
              </a:rPr>
              <a:t>begi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... </a:t>
            </a:r>
            <a:r>
              <a:rPr b="1" lang="en-GB" sz="2800" spc="-1" strike="noStrike">
                <a:solidFill>
                  <a:srgbClr val="000000"/>
                </a:solidFill>
                <a:latin typeface="Courier 10 Pitch"/>
              </a:rPr>
              <a:t>rescu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... </a:t>
            </a:r>
            <a:r>
              <a:rPr b="1" lang="en-GB" sz="2800" spc="-1" strike="noStrike">
                <a:solidFill>
                  <a:srgbClr val="000000"/>
                </a:solidFill>
                <a:latin typeface="Courier 10 Pitch"/>
              </a:rPr>
              <a:t>ensur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... </a:t>
            </a:r>
            <a:r>
              <a:rPr b="1" lang="en-GB" sz="2800" spc="-1" strike="noStrike">
                <a:solidFill>
                  <a:srgbClr val="000000"/>
                </a:solidFill>
                <a:latin typeface="Courier 10 Pitch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Barry</cp:lastModifiedBy>
  <cp:revision>0</cp:revision>
  <dc:subject/>
  <dc:title/>
</cp:coreProperties>
</file>