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-216000" algn="ctr"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4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104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Learning Ruby - 14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39800" y="2101680"/>
            <a:ext cx="90914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abbag IV - th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fourth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nstallment of th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ri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Creating Iterator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90914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ding iterator support (that is, .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ach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.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llec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.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jec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etc., etc.) is e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mply mixin the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umerabl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lass into your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clude Enumerabl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near the top of your class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eate an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ach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method that makes sense for your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9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class Eth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include Enume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def 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yield @d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yield @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yield @type_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yield @pay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end # of ea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end # of Ethern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Ethernet.e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91724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string_of_lines = IO::read( "/etc/passwd"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array_of_lines = IO::readlines( "/etc/passwd"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Slurping F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15520" y="2101680"/>
            <a:ext cx="94122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10 Pitch"/>
              </a:rPr>
              <a:t># Remember: all arguments are passed in as string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ARGV.each { |arg| puts arg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option1, option2 = ARGV.collect { |arg| arg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if ARGV.length =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fail "Please supply some parameters!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end # of i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6360" y="910080"/>
            <a:ext cx="96552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Processing Command-line Ar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9680" y="1944360"/>
            <a:ext cx="9580680" cy="52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ENV.keys.each { |key| print "#{key} -&gt; ", ENV[key], "\n"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ENV.collect() do |key, value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print "#{key} --&gt; #{value} \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end # of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require 'rbconfig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include Conf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CONFIG.keys.sort.each do |key|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print "#{key} -&gt; ", CONFIG[key], "\n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end # of 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5680" y="910080"/>
            <a:ext cx="95407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Environments and Configur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ruby -e 'puts $: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10 Pitch"/>
              </a:rPr>
              <a:t>/usr/local/lib/site_ruby/1.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10 Pitch"/>
              </a:rPr>
              <a:t>/usr/local/lib/site_ruby/1.8/i486-linu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10 Pitch"/>
              </a:rPr>
              <a:t>/usr/local/lib/site_ruby/1.8/i386-linu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10 Pitch"/>
              </a:rPr>
              <a:t>/usr/local/lib/site_rub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10 Pitch"/>
              </a:rPr>
              <a:t>/usr/lib/ruby/1.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10 Pitch"/>
              </a:rPr>
              <a:t>/usr/lib/ruby/1.8/i486-linu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10 Pitch"/>
              </a:rPr>
              <a:t>/usr/lib/ruby/1.8/i386-linu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10 Pitch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Where Are My Modul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More ... Ruby So Far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922032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ok for ways to do cool stuff with Rub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project proposal for 4</a:t>
            </a:r>
            <a:r>
              <a:rPr b="0" lang="en-GB" sz="3200" spc="-1" strike="noStrike" baseline="33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Yea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eate a Ruby extension that allows for the manipulation of th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orque Game Engin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from within any Ruby progr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Barry</cp:lastModifiedBy>
  <cp:revision>0</cp:revision>
  <dc:subject/>
  <dc:title/>
</cp:coreProperties>
</file>