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76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776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rrays an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 Arrays are Cool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044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ve already seen a Ruby array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ng_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rr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r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ynamically - no mo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noying array index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rray elements can conta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other o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think about the implications of thi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rrays can be set with a list of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 = [ 'one', 'two', 'three'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my_a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ther_a = ["four", "five", "six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other_a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[3] = other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my_a[3]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ther_a[3] = "seve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47880"/>
            <a:ext cx="86072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laying with Ruby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other_a[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nother_a = other_a[1..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nother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nother_a.values_at(0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[5] = “this is the e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.values_at(1, 3, 5).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947880"/>
            <a:ext cx="86072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un with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another_a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other_a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my_a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rray.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rray.new(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rray.new(10, 'x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ther_a.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ther_a.delete("five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ther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47880"/>
            <a:ext cx="86072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Array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53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each { |element| puts element if element.length &gt; 4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each { |element| puts element if element.length &gt; 3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each { |element| puts element if element.length &gt; 2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fla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flat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each { |element| puts element if element.length &gt; 4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47880"/>
            <a:ext cx="86072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"each"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71040"/>
            <a:ext cx="86072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ast = my_a.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rst = my_a.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.unshift( las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.push( firs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947880"/>
            <a:ext cx="86072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Array 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rray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rray method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rray iterator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ve "bye bye" to implementing scary linked list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buNone/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K, all together now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uby array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