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Learning Ruby -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9800" y="4229280"/>
            <a:ext cx="860724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xi Sans"/>
              </a:rPr>
              <a:t>Ruby Has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Guess What?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9123480" cy="50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13840" indent="-21384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uby hashes are coo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3840" indent="-21384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like arrays, which associate object references with numbered indices, hashes associate object references with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3840" indent="-21384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KA "associative arrays", "maps" and "dictionaries" - stick with "hash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3840" indent="-21384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ame is AKA the "key", while the object reference is AKA the "value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3840" indent="-21384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gether, hash entries are referred to as "key/value" or "name/value" pa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7240" cy="53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songs =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songs = { "July" =&gt; :Mund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"I Predict a Riot" =&gt; :KaiserChief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"Rainbow" =&gt; :Mundy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classic_rock =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'Smoke on the Water' =&gt; 'Deep Purple'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'Stairway to Heaven' =&gt; 'Led Zeppelin'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songs["La La La La La"] = :KaiserChie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songs["Na Na Na Na Na"] = :KaiserChie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so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classic_r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Playing with Ruby Has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000" y="2101680"/>
            <a:ext cx="9612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songs.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songs.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songs.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songs.col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classic_rock.collect do | song, artist |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puts "#{artist} performs '#{song}'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end # of 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puts songs.collect { | song, artist | "#{artist} performs '#{song}'."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puts songs.collect { | song, artist | "#{artist} performs '#{song}'." }.s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Ruby Hash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7240" cy="53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songs.delete( 'La La La La La'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classic_rock.emp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classic_rock.has_key?( 'Satisfaction'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songs.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all_songs = songs.merge( classic_rock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puts all_songs.collect do | song, artist 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"#{artist} performs '#{song}'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end.sort # of 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my_all_time_fav = all_songs.to_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my_all_time_fav[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Working with Has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ore ... Ruby So Far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uby hashes are coo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shes can stor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ny object referen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... another hash, another array, another object ... anyth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an be very, very flexible, efficient and (if you pay attention)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ug-fr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Barry</cp:lastModifiedBy>
  <cp:revision>0</cp:revision>
  <dc:subject/>
  <dc:title/>
</cp:coreProperties>
</file>