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Learning Ruby - 4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uby Code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Ruby Code Block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9440" y="2117520"/>
            <a:ext cx="91724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y Attention -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is importa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de blocks in Ruby are not like “blocks of code” in other programm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ocks can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mple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"callbacks" and "iterators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ocks can b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assed arou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rom method to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ocks are typically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ssociat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ith method 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15880" y="2101680"/>
            <a:ext cx="94615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3.times { print "Ho! "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1.upto( 5 ) { |i| puts i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my_a.each { |element| puts element if element.length &gt; 4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classic_rock.collect do | song, artist |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uts "#{artist} performs '#{song}'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end # of 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puts songs.collect { | song, artist | "#{artist} performs '#{song}'." }.s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Block Examples Seen So F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How Code Blocks Work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9156600" cy="50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ode within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{ .. }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o .. e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passed to the method (as if it were another parame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method then arranges to call the block of code a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possible to write custom methods that take advantage of this Ruby fe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"yield" method will call an associated code block from within a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uby code blocks are no more evident than when used a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5880" y="2101680"/>
            <a:ext cx="9477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ENV.collect do | key, value |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rint key + ' -&gt; ' + value + "\n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end # of 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[ 'a', 'e', 'i', 'o', 'u' ].each { |ch| puts ch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( 'f'..'t' ).each { |ch| print ch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[2, 3, 5, 7, 11].find { |prime| prime*prime &gt; 30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kids = %w( joseph aaron aideen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kids.each { |child| puts "#{child}\n"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More Block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ore ... Ruby So Far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0108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de blocks are coo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de blocks are used to implement it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the time to understand how they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fore using while (or any other looping construct), ask yourself if an iterating code block will do inst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Barry</cp:lastModifiedBy>
  <cp:revision>0</cp:revision>
  <dc:subject/>
  <dc:title/>
</cp:coreProperties>
</file>