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091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while line = 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while line = 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line.down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while line = 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line.downcase if line =~ /U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"readlines" Program x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72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le.open( "/etc/passwd" ) do |my_file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file.each_byte do |byte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c byte; print "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le.open( "/etc/passwd" ) do |my_file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y_file.each_line { |line| puts line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O.foreach( "/etc/passwd" ) { |line| puts line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ile Reading It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STDOUT &lt;&lt; "Hello" &lt;&lt; " " &lt;&lt; "World!" &lt;&lt; "\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's a bit like C++ - Yu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easy to work with in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advantage of the in-built iterators and methods when working with 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