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Learning Ruby - 6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uby's Regex Technolog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9123480" cy="50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13840" indent="-2138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ying what you are after using a terse, compact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384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y useful when working with textu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ilar technology available in Perl, C#, Python and Java (to name a f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k of regex's as a programming technology within a programming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384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er to the handout "Paul's Ruby Regex Primer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1882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#! /usr/bin/ruby -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def show_regexp( target, regex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# Based on the code from page 69, Programming Rub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# 2nd Edition by Dave Tho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if target =~ reg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"#{$`}&gt;&gt;#{$&amp;}&lt;&lt;#{$'}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"no match found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nd # of i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nd # of show_regex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target, regex = ARGV.collect { |arg| arg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regex = Regexp.new( regex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puts show_regexp( target, regex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A Useful Ruby Regex Process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ore ... Ruby So Far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the time to learn Ruby's regular expression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Barry</cp:lastModifiedBy>
  <cp:revision>0</cp:revision>
  <dc:subject/>
  <dc:title/>
</cp:coreProperties>
</file>