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Learning Ruby - 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xi Sans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def addem ( first, second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irst +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ad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ddem( 23, 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def addemall ( first, *res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est.each { |r| first = first + r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adde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addemall( 1, 2, 3, 4, 5, 6, 7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by Methods are Eas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def block_sent? ( wha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if block_gi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yield( wha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7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block_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block_sent?( 2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block_sent?( 22 ) { |num| num*num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block_sent?( 22 ) { |num| num+num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Y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3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def give_back ( a, *b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etur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give_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give_back( 1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give_back( 10, 1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def give_back2 ( a, *b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7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return a, b.fl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end # of give_back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give_back2( 1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give_back2( 10, 1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give_back2( 10, 11, 12, 1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first, rest = give_back2( 1, 2, 3, 4, 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87840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Fun with </a:t>
            </a:r>
            <a:r>
              <a:rPr b="1" lang="en-GB" sz="4400" spc="-1" strike="noStrike">
                <a:solidFill>
                  <a:srgbClr val="333333"/>
                </a:solidFill>
                <a:latin typeface="Courier 10 Pitch"/>
                <a:ea typeface="Luxi Sans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re ... Ruby So F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23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s can take no, a fixed number or a variable number of parameters as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alue of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st statement execu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returned by the method (unless an explicit </a:t>
            </a:r>
            <a:r>
              <a:rPr b="1" lang="en-GB" sz="3200" spc="-1" strike="noStrike">
                <a:solidFill>
                  <a:srgbClr val="000000"/>
                </a:solidFill>
                <a:latin typeface="Courier 10 Pitch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s are what you use to build classes in 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cp:revision>0</cp:revision>
  <dc:subject/>
  <dc:title/>
</cp:coreProperties>
</file>