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8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iting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23480" cy="49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quire 'zlib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Zlib::GzipWriter.open( "ruby.gz" ) do |chunk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hunk.write( File.read( "ruby.data.txt" 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quire 'zlib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le.open( "ruby.gz" ) do |fh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gzip = Zlib::GzipReader.new( f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hunk = gzip.read.split( /\n/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ch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Library - Z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56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 the know the standard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 to know the on-line repos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se whenever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e your work with others - upload your libraries to the repos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uby's Built-in Librar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3960" y="1927080"/>
            <a:ext cx="92203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's a large collection of standard libraries provided with 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ickAx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ovides a comprehensive survey of what'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ternet hosts a number of Ruby Library Repositories,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Ruby Application Arch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AA)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ubyFor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ve is on to us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ubyGem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 standard library managemen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reinvent the wheel (life is far too short) - use Ruby libraries whenever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23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require 'base64' # Conforms with RFC 20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input =  "Let us turn our thoughts today\n"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"To Martin Luther King\n"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"And recognize that there are ties between u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e_input = Base64.encode64( inpu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Base64.decode64( e_inpu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Library - Base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23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require 'date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t = Date.new( 2006, 9, 2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dt.to_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"The month is " + dt.month.to_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"This is the " + dt.yday.to_s + "th day of the yea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t2 = DateTime.new( 2006, 9, 2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"It was a #{dt2.strftime( '%A' )} when you “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started learning Ruby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Library -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require 'digest/md5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require 'digest/sha1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input = "Let us turn our thoughts today\n"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"To Martin Luther King\n"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"And recognize that there are ties between us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puts "MD5: " + Digest::MD5.hexdigest( input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puts "SHA1: " + Digest::SHA1.hexdigest( input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Library - Dig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quire 'fi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nd.find( "/home/barryp/ruby/bin" ) do |fh|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"\t#{fh}\n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Library - F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203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require 'readline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input = Readline::readline( "Gimme some: ", tru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input = Readline::readline( "Gimme some more: ", tru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Library - R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076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quire 'readlin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nclude R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nput = readline( "Gimme some: ", tr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nput = readline( "Gimme some more: ", tr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520" y="910080"/>
            <a:ext cx="9315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Library - Readline 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9240" y="2292120"/>
            <a:ext cx="9188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quire 'Win32API'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# Do your worst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quire 'win32ol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browser = WIN32OLE.new( “Firefox.Application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browser.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browser.navigate( "http://www.google.com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Libraries - 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