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arning Ruby - 9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880" y="2101680"/>
            <a:ext cx="94615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class Per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def initialize( name, dob, nationality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@name = 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@dob = d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@nationality = na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end # of initial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end # of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fred = Person.new( 'Fred Jones', '24/05/1950', :Irish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f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fred.methods.s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fred.instance_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reating Classes Manu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56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red.to_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lass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def to_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"#@name born on #@dob (#@nationality)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to_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red.to_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5680" y="910080"/>
            <a:ext cx="9380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lasses to Strings - Dynamical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7760" y="1939680"/>
            <a:ext cx="860724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class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def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@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def d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@d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d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def na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@na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nation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fred.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fred.to_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fred.d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lass Get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3600" y="1936440"/>
            <a:ext cx="917244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class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def set_name( nam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@name =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set_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def set_dob( dob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@dob = d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set_d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def set_nationality( nationalit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@nationality = na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set_nation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fred.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fred.set_name( "Fred Reginald Jones"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fred.to_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lass Set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class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def name=( nam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@name =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name=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def dob=( dob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@dob = d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dob=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def nationality=( nationalit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@nationality = na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nationality=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orking 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class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attr_reader :name, :dob, :na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attr_writer :name, :dob, :na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def initialize( name, dob, nationality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@name =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@dob = d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@nationality = na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end # of initiali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def to_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"#@name born on #@dob (#@nationality)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end # of to_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end # of Per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tom   = Person.new( "Thomas",  "26/05/1945", :Irish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dick  = Person.new( "Richard", "15/02/1980", :English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harry = Person.new( "Harold",  "02/11/1975", :American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people = [ tom, dick, harry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people.each { |person| puts person.to_s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orking Even More 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... Ruby So Fa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22032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ing classes in Ruby is almost too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attr_read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attr_wri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hortcuts are especially h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course, as Ruby supports OO, classes ca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her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other classes (and from more than one when you us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ixi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cess controls are also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pter 3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ickAx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as all th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cp:revision>0</cp:revision>
  <dc:subject/>
  <dc:title/>
</cp:coreProperties>
</file>