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etting The Biological Scen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ing DNA, RNA, polypeptides, proteins and sequenc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ranscription and Transl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3084480"/>
            <a:ext cx="8607240" cy="37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://www.ebi.ac.uk/emboss/transeq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Emboss/Transeq Web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15876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BI's EMBOSS/Transeq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EMBOSSTRANSEQ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51000" y="1339920"/>
            <a:ext cx="7848720" cy="61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072360" cy="21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gatttccct acgtc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ourier New"/>
              </a:rPr>
              <a:t>atg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c atttttctat taatcacagg agttcatcat gaaaaaactg 15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ttgcctctc tcgccatcgc tgccgttgtt gcccccgtgt gggccgccac ccagaccgtc 16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cgctgtccg taccgggcat gacctgctcc gcttgtccga tcaccgttaa gaaggcgatt 16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ccaaggtcg aaggcgtcag caaagttaac gtgaccttcg agacacgcga agcggttgtc 17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ccttcgatg atgccaagac cagcgtgcag aagctgacca aggccaccga agacgcgggc 1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tccgtcca gcgtcaagaa g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ourier New"/>
              </a:rPr>
              <a:t>tga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gcact gaaaacggca gcgcagcaca tctgacgccc 18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Input a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4880" y="4730760"/>
            <a:ext cx="8607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GFPYVMPFFY*SQEFI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  <a:ea typeface="Luxi Sans"/>
              </a:rPr>
              <a:t>MKKLFASLAIAAVVAPVWAATQTVTLSVPGMTCSACPITVKKAISKVEGVSKVNVTFETREAVVTFDDAKTSVQKLTKATEDAGYPSSVKK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*GTENGSAAHL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T CDS 1549..18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T /codon_start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T /db_xref="GOA:P13113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T /db_xref="SWISS-PROT: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1311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T /transl_table=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T /gene="merP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T /product="mercury resistance protei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T /protein_id="AAA98223.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T /translation="MKKLFASLAIAAVVAPVWAATQTVTLSVPGMTCSACPITVKK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T KVEGVSKVNVTFETREAVVTFDDAKTSVQKLTKATEDAGYPSSVKK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Input a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Genome Sequenc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xample DNA-Gene-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Mer Operon Example DNA-Gene-Protei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MEROPERON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98680" y="2809800"/>
            <a:ext cx="75690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3232080"/>
            <a:ext cx="860724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://www.uga.edu/cms/FacA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8160" y="887760"/>
            <a:ext cx="907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More Information on Mer Op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ere To From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ntroducing Biological Sequence Analysi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denine and Thymine Nucleotide Bas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AANDT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3080" y="2811600"/>
            <a:ext cx="8407440" cy="35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Guanine and Cytosine Nucleotide Bas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GANDC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23920" y="2655720"/>
            <a:ext cx="8102520" cy="37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DNA “double helix”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DOUBLEHELIX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24080" y="2986200"/>
            <a:ext cx="78483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rotein and Polypetid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Catalytic Triad of Chymotrypsin (PDB ID: 1AFQ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TRIAD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0560" y="2606760"/>
            <a:ext cx="82296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7600" y="627120"/>
            <a:ext cx="96631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Generalised Models and Their Us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Central Dogma of Molecular Biolog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DOGMA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70320" y="3157560"/>
            <a:ext cx="5410080" cy="248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