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Protein Databan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protein data-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ccessing Data In PDB Entri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PDB Annot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R and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2 RESOLUTION. 1.05 ANGSTRO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215 NMR STUD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215 THE COORDINATES IN THIS ENTRY WERE GENERATED FROM SOL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215 NMR DATA. PROTEIN DATA BANK CONVENTIONS REQUIRE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215 CRYST1 AND SCALE RECORDS BE INCLUDED, BUT THE VALU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215 THESE RECORDS ARE MEANINGL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040" y="82260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PDB data-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5040" y="2115720"/>
            <a:ext cx="92631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3 FIT TO DATA USED IN REFIN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3 CROSS-VALIDATION METHOD : THROUGH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3 FREE R VALUE TEST SET SELECTION : RAND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3 R VALUE (WORKING + TEST SET) : 0.13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3 R VALUE (WORKING SET) : 0.13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3 FREE R VALUE : 0.15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3 FREE R VALUE TEST SET SIZE (%) : NU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 3 FREE R VALUE TEST SET COUNT : 22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70040" y="82260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Example PDB data-file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lotting Free R Values against Resolu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FREER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3440" y="1893960"/>
            <a:ext cx="7467840" cy="56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REF 1LQT A 1 456 GB 13882996 AAK47528 1 4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REF 1LQT B 1 456 GB 13882996 AAK47528 1 4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REF 1AFI 1 72 SWS P04129 MERP_SHIFL 20 9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REF 1M7T A 1 66 SWS P10599 THIO_HUMAN 0 6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REF 1M7T A 67 106 SWS P00274 THIO_ECOLI 68 1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Database cross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ARK 2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ARK 210 BEST REPRESENTATIVE CONFORMER IN THIS ENSEMBLE :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ARK 2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Coordinates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 N ARG A 2 26.318 -8.010 39.090 1.00 20.71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SOU 1 N ARG A 2 2040 3071 2755 114 -339 -393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2 CA ARG A 2 25.150 -8.702 38.505 1.00 18.85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SOU 2 CA ARG A 2 2029 2677 2455 67 -321 -209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3 C ARG A 2 24.846 -8.176 37.123 1.00 17.23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SOU 3 C ARG A 2 1689 2429 2429 143 -282 -258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4 O ARG A 2 25.151 -7.048 36.775 1.00 18.14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R 7215 GLY A 4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7216 N ARG B 2 -19.423 25.709 6.980 1.00 21.57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SOU 7216 N ARG B 2 2476 3012 2707 -165 -370 95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7217 CA ARG B 2 -18.718 26.510 8.024 1.00 19.01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SOU 7217 CA ARG B 2 2127 2672 2424 -63 -285 91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7218 C ARG B 2 -17.250 26.207 8.002 1.00 17.22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SOU 7218 C ARG B 2 1955 2392 2196 -91 -299 121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7219 O ARG B 2 -16.851 25.158 7.535 1.00 18.15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Data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R 14289 GLY B 4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TATM14290 C ACT 1866 -13.075 1.733 10.218 1.00 27.25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SOU14290 C ACT 1866 3493 3560 3299 -39 -36 -44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ECT142901429114292142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ECT1429114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ECT1429214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ECT14690146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389 0 15 46 38 0 0 620280 2 401 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Data section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1000" y="1895400"/>
            <a:ext cx="860724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 N MET A 1 3.110 -4.682 -3.025 1.00 0.00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2 CA MET A 1 2.546 -3.712 -2.053 1.00 0.00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3 C MET A 1 1.134 -3.295 -2.450 1.00 0.00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4 O MET A 1 0.882 -2.130 -2.758 1.00 0.00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5 CB MET A 1 3.466 -2.491 -2.002 1.00 0.00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6 CG MET A 1 3.781 -1.903 -3.370 1.00 0.00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7 SD MET A 1 4.256 -0.166 -3.285 1.00 0.00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8 CE MET A 1 6.004 -0.307 -2.920 1.00 0.00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9 1H MET A 1 2.906 -4.327 -3.980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0 2H MET A 1 2.650 -5.601 -2.859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1 3H MET A 1 4.134 -4.738 -2.858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2 HA MET A 1 2.517 -4.178 -1.079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3 1HB MET A 1 2.996 -1.724 -1.405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4 2HB MET A 1 4.397 -2.778 -1.536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5 1HG MET A 1 4.596 -2.461 -3.807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6 2HG MET A 1 2.907 -1.993 -3.998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7 1HE MET A 1 6.344 -1.302 -3.167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8 2HE MET A 1 6.169 -0.120 -1.869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9 3HE MET A 1 6.553 0.416 -3.505 1.00 0.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20 N VAL A 2 0.215 -4.256 -2.446 1.00 0.00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Data section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R 1659 VAL A 1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1 N MET A 1 2.750 -6.779 -1.627 1.00 0.00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OM 2 CA MET A 1 2.487 -5.475 -2.290 1.00 0.00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R 1660 VAL A 1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Data section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etermining Biomolecule Structur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agnetic res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( $X, $Y, $Z ) = ( substr( $_, 30, 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str( $_, 38, 8 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str( $_, 46, 8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800" y="8816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Extracting 3D co-ordinat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7120" y="1901520"/>
            <a:ext cx="925668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simple_coord_extract &lt;PDB File&gt; - Demonstrates the extrac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-Alpha co-ordinates from a PD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data-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&lt;&gt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/^ATOM/ &amp;&amp; substr( $_, 13, 4 ) eq "CA "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( $X, $Y, $Z ) = ( substr( $_, 30, 8 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ubstr( $_, 38, 8 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ubstr( $_, 46, 8 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X =~ s/ //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Y =~ s/ //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Z =~ s/ //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X, Y &amp; Z: $X, $Y, $Z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800" y="23868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simple_coord_extrac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, Y &amp; Z: 25.150, -8.702, 38.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, Y &amp; Z: 23.675, -8.497, 35.0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, Y &amp; Z: 20.747, -6.252, 34.3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, Y &amp; Z: 17.545, -8.297, 34.2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, Y &amp; Z: 15.182, -7.484, 31.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, Y &amp; Z: 11.736, -8.952, 30.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, Y &amp; Z: 10.261, -9.014, 27.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, Y &amp; Z:  6.507, -9.548, 27.1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9800" y="23868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simple_coord_extract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graphic image contact map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CONTACTMAP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00320" y="1959120"/>
            <a:ext cx="6110280" cy="55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RIDE: Secondary Structure Assignmen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10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easier and desirable to regenerate database annotation than trawl through entries reconstituting the annotation using custom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tar -zxvf stride.tar.g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d st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st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Installation of STR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ssigning Secondary Structur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implified definition of a Hydrogen Bon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SIMPLIFIED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29080" y="3397320"/>
            <a:ext cx="487656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 of Secondary Structure Elements in Protei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SSDEMO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88840" y="2357280"/>
            <a:ext cx="835668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Protein Databan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7440" y="371520"/>
            <a:ext cx="966636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Definition of Dihedral angles in the backbone of protein structur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PSIPSI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2608200"/>
            <a:ext cx="830592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st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ou must specify input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ction: secondary structure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age: stride [Options] InputFile [ &gt; file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p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f         File Out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mFile     MolScrip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o         Report secondary structure summary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h         Report Hydrogen b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Id1Id2.. Read only chains Id1, Id2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cId1Id2.. Process only Chains Id1, Id2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q[File]   Generate SeQuence file in FASTA format and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ptions are position and case in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tride -cA 1lqt.p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STRIDE and parsing the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gawk '/^ASG/ {print $8 " " $9}' 1lqt.A.st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360.00 156.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75.72 161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71.26 145.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111.08 119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118.65 131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gawk '(/^ASG/ &amp;&amp; /Strand/) {print $8 " " $9}' 1lqt.A.st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gawk '(/^ASG/ &amp;&amp; /AlphaHelix/) {print $8 " " $9}' 1lqt.A.st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gawk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8040" y="514440"/>
            <a:ext cx="946008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amachandran Plot of dihedral angles of chain A from  1LQ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1LQTPHIPSI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90720" y="2193840"/>
            <a:ext cx="642636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11700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tride -q 1lqt.p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gt;1lqt.pdb A 452 1.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PYYIAIVGSGPSAFFAAASLLKAADTTEDLDMAVDMLEMLPTPWGLVRSGVAPDHPK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gt;1lqt.pdb B 454 1.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PYYIAIVGSGPSAFFAAASLLKAADTTEDLDMAVDMLEMLPTPWGLVRSGVAPDHPK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tride -cA -q 1lqt.p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gt;1lqt.pdb A 452 1.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PYYIAIVGSGPSAFFAAASLLKAADTTEDLDMAVDMLEMLPTPWGLVRSGVAPDHPK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Extracting amino acid sequences using STR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troducing The mmCIF Protein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verting mmCIF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ing mmCIF to P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ing mmCIFs to PDB with CIF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tar -zxvf ciftr-v2.0-linux.tar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d ciftr-v2.0-linux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etenv RCSBROOT ~/ciftr-v2.0-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export RCSBROOT = ~/ciftr-v2.0-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CIFTr -i 1lqt.c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CIFTr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on mmCIF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s with the CIFTr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dvice on using mmC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omated conversion of mmCIF to P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PDB Growth Char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GROWTH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55600" y="1944720"/>
            <a:ext cx="782316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10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of anything in the PDB Header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PDB Data-File Forma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 PDB structure 1LQ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1LQT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54080" y="1919160"/>
            <a:ext cx="8026560" cy="56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 PDB structure 1M7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1M7T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62080" y="1957320"/>
            <a:ext cx="618516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rcsb.org/pd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ebi.ac.uk/services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Luxi Sans"/>
              </a:rPr>
              <a:t>Downloading PDB data-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dcterms:modified xsi:type="dcterms:W3CDTF">2004-05-01T12:27:53Z</dcterms:modified>
  <cp:revision>1</cp:revision>
  <dc:subject/>
  <dc:title>The Protein Databank</dc:title>
</cp:coreProperties>
</file>