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on-Redundant Datase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mportance of non-redunda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Non-Redundant Datase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tion of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-redundancy and non-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1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on-redundant dataset is a subset of its parent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tp://ftp.embl-heidelberg.de/pub/databases/protein_extras/pdb_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on-Redundant Protein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1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sure to double-check the list of excluded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