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Databas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to talk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Available Database System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databa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prise databa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databa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QL: The Language of Databas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data with 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pulating data with 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://www.expasy.org/sprot/userm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://www.ebi.ac.uk/embl/Documentation/User_manual/ho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A Database Case Study: 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3409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D MERT_ACICA STANDARD; PRT; 116 A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 Q5210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T 01-NOV-1997 (Rel. 35, Cre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T 01-NOV-1997 (Rel. 35, Last sequence up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T 15-JUN-2002 (Rel. 41, Last annotation up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E Mercuric transport protein (Mercury ion transport prote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N M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S Acinetobacter calcoacetic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G Plasmid pKLH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C Bacteria; Proteobacteria; Gammaproteobacteria; Pseudomonad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C Moraxellaceae; Acinetobac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Extracted Sampl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://www.mysq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hkconfig --add mysq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hkconfig mysq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ysqladmin -u root password 'passwordhere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ysql -u root 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Installing a databas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9440" y="1885680"/>
            <a:ext cx="9234360" cy="56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sql&gt;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reate database M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Query OK, 1 row affected (0.36 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sql&gt;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how databas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+------------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 Databases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+------------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 MER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 test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 mysql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+------------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3 rows in set (0.00 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sql&gt;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se mysq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abas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sql&gt;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rant all on MER.* to bbp identified by 'passwordhere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Query OK. 0 rows affected (0.00 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sql&gt;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Creating the MER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50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reate table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cession_number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char (6)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de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char (4)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pecies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char (5)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_date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e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escription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ext not nu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quence_header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char (75)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quence_length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quence_data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ext not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ysql -u bbp -p MER &lt; create_proteins.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Adding tables to the MER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xim 12.2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data before designing the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ica_ADPT.swp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rma_abdprt.swp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hilf_seq_ACDP.swp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800" y="881640"/>
            <a:ext cx="9028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Example SWISS-PROT data-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get_proteins *swp* &gt; proteins.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800" y="53208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Preparing SWISS-PROT data for impor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Introducing Databas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atabase is a collection of one or more related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ble is a collection of one or more row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w is a collection of one or more data items, arranged in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2880" y="2101680"/>
            <a:ext cx="94600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 mysql -u bbp -p 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sql&gt;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data local infile "proteins.input" into table protei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Query OK, 14 rows affected (0.07se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cords: 14 Deleted: 0, Skipped: 0, Warnings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Importing tab-delimited data into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sql&gt; select accession_number, sequence_leng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from protein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sql&gt; select accession_number, sequence_leng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from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order by accession_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sql&gt; select accession_number, sequence_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from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where sequence_length &gt;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order by sequence_leng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Working with the data in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reate table d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cession_number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char (8)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try_name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char (9)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quence_version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char (16)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_date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e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escription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ext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quence_header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char (75)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quence_length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quence_data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ext not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ysql -u bbp -p MER &lt; create_dnas.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Adding another table to the MER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reparing EMBL data for import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F213017.EMBL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01730.embl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15049.embl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24940.embl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get_dnas *EMBL* *embl* &gt; dnas.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1240" y="881640"/>
            <a:ext cx="9028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Example EMBL data-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sql&gt;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ad data local infile "dnas.input" into table dn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Query OK, 4 rows affected (0.01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cords: 4 Deleted: 0, Skipped: 0, Warnings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Importing tab-delimited data into d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sql&gt; select accession_number, sequence_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from d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where sequence_length &gt; 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order by sequence_leng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sql&gt; select accession_number, sequence_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from d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where sequence_length &gt; 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order by sequence_length des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sql&gt; select accession_number, entry_name, sequence_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from d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order by sequence_length de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limit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Working with the data in d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reate table crossrefs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_protein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char (6)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_dna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char (8) not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ysql -u bbp -p MER &lt; create_crossrefs.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Adding the crossrefs table to the MER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reparing cross-references for import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3120" y="2241720"/>
            <a:ext cx="9342360" cy="33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863640" indent="-28728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$ ./get_protein_crossrefs *swp* &gt; protein_crossre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$ ./get_dna_crossrefs *embl* *EMBL* &gt; dna_crossre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$ ./unique_crossrefs protein_crossrefs dna_crossrefs &gt; unique.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2520" y="2101680"/>
            <a:ext cx="9536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sql&gt;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ad data local infile "unique.input" into table crossref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Query OK, 22 rows affected (0.04 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cords: 22 Deleted: 0 Skipped: 0 Warnings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Importing tab-delimited data into crossr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3409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60-12-21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. B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54-6-14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. Moor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---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covery_D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i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---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60-12-21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. B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54-6-14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. Moor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70-3-4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. B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001-12-27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. D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umn nam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covery_D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vali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ientis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String no longer than 64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204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sql&gt; select * from crossref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sql&gt; select proteins.sequence_header, dnas.sequence_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from proteins, dnas, crossr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where proteins.accession_number = crossrefs.ac_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and dnas.accession_number = crossrefs.ac_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order by proteins.sequence_hea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sql&gt; select proteins.code, proteins.species, dnas.entr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from proteins, dnas, crossr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where proteins.accession_number = crossrefs.ac_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and dnas.accession_number = crossrefs.ac_d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9800" y="50364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Working with the data in crossr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204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sql&gt;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proteins.code as 'Protein Code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proteins.species as 'Protein Species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dnas.entry_name as 'DNA Entry Name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from proteins, dnas, crossr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where proteins.accession_number = crossrefs.ac_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and dnas.accession_number = crossrefs.ac_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order by proteins.co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9800" y="50364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Working with the data in crossref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reate table citations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cession_number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char (8)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umber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uthor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ext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itle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ext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cation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ext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nnotation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ysql -u bbp -p MER &lt; create_citations.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Adding the citations table to the MER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reparing citation information for import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9800" y="2101680"/>
            <a:ext cx="8607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$ ./get_citations * &gt; citations.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3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sql&gt;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data local infile "citations.input" into table cita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Query OK, 34 rows affected (0.08 se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cords: 34 Deleted: 0 Skipped: 0 Warnings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Importing tab-delimited data into ci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sql&gt;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proteins.code as 'Protein Code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proteins.species as 'Protein Species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dnas.entry_name as 'DNA Entry Name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citations.location as 'Citation Location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from proteins, dnas, crossrefs, c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where proteins.accession_number = crossrefs.ac_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and dnas.accession_number = crossrefs.ac_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and dnas.accession_number = citations.accession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order by proteins.co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Working with the data in ci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xim 12.3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LECT query can do no ha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here To From He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3409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---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covery_D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ientis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--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60-12-21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. Barr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ying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54-6-14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. Moorho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lepathic sung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70-3-4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. Blow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f cleaning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001-12-27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. Do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me tra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umn nam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covery_D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vali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ientis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String no longer than 64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cover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String no longer than 128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0040" y="85284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Relat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01320"/>
            <a:ext cx="95169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------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lumn name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ype restri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------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iscovery_Date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 valid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cientist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 String no longer than 64 charac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iscovery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 String no longer than 128 charac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ate_of_birth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 valid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elephone_number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 String no longer than 16 charac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--------------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---------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---------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-------------  </a:t>
            </a:r>
            <a:r>
              <a:rPr b="0" lang="en-IE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Discovery_Date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Scientist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Discovery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Date_of_birth   </a:t>
            </a:r>
            <a:r>
              <a:rPr b="0" lang="en-IE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Telephone_numb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--------------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---------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---------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-------------   </a:t>
            </a:r>
            <a:r>
              <a:rPr b="0" lang="en-IE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1960-12-21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P. Barry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Flying car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1966-11-18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  353-503-555-919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1954-6-14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M. Moorhouse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Telepathic sunglasses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1970-3-24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  00-44-81-555-32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1970-3-4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J. Blow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Self cleaning child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1955-8-17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  555-283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2001-12-27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J. Doe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Time travel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1962-12-1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  -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1974-3-17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M. Moorhouse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Memory swapping toupee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1970-3-24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  00-44-81-555-32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1999-12-31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M. Moorhouse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Twenty six hour clock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1958-7-12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  416-555-2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70040" y="85284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Relating table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umn nam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covery_D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vali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ientist_I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String no longer than 8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cover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String no longer than 128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umn nam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ientist_I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String no longer than 8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ientis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String no longer than 64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te_of_bir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vali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r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String no longer than 256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lephone_numb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String no longer than 16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Solving the one tabl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145440" cy="50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------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----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iscovery_Date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cientist_ID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------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----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954-6-14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M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elepathic sung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960-12-21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B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lying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969-8-1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B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cure for bad jo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970-3-4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B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lf cleaning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974-3-17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M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ory swapping toup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999-12-31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M2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wenty six hour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001-12-27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D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ime tra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------------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---------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  -------------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IE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-------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Scientist_ID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Scientist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  Date_of_birth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IE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Address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Telephone_numb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------------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---------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  -------------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IE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-------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JB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J. Blow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  1955-8-17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Belfast, NI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555-283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JD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J. Doe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  1962-12-1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Syndey, AUS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-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MM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M. Moorhouse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  1970-3-24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England, UK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00-44-81-555-32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MM2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M. Moorhouse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  1958-7-12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Toronto, CA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416-555-2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PB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P. Barry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  1966-11-18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IE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Carlow, IRL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</a:rPr>
              <a:t>353-503-555-919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8040" y="927360"/>
            <a:ext cx="9636120" cy="6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Arial"/>
                <a:ea typeface="Luxi Sans"/>
              </a:rPr>
              <a:t>Solving the one table problem, con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xim 12.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tle database design goes a long w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Database system: a defini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atabase system is a computer program (or group of programs) that provides a mechanism to define and manipulate one or mor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Barry</cp:lastModifiedBy>
  <dcterms:modified xsi:type="dcterms:W3CDTF">2004-05-01T18:26:43Z</dcterms:modified>
  <cp:revision>6</cp:revision>
  <dc:subject/>
  <dc:title>Databases</dc:title>
</cp:coreProperties>
</file>