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Databases and Per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Perl to talk to datab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1900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ackage DbUtils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DbUtilsMER.pm - the database utilities module from "Bioinformatic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Biocomputing and Perl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Version 0.01: module created to hold MERconnectD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quire Export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r @ISA = qw( Exporter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r @EXPORT = qw( MERconnectDB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r @EXPORT_OK = qw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r %EXPORT_TAGS = 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ur $VERSION = 0.0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Developing A Database Utility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18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ATABASE =&gt; "DBI:mysql:MER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B_USER =&gt; "bbp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B_PASS =&gt; "passwordher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ub MERconnectD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Given: noth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Return: a "connected" database handle to the MER database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if no connection is possible, return "undef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return DBI-&gt;connect( DATABASE, DB_USER, DB_PAS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Developing A Database Utility Module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DbUtilsM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bh = MERconnect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DATABASE =&gt; "DBI:mysql:MER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DB_USER =&gt; "bbp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DB_PASS =&gt; "passwordher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bh = DBI-&gt;connect( DATABASE, DB_USER, DB_PAS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Using the Database Utility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1852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show_tables2 - list the tables within the MER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Uses "fetchrow_array" to display resu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DbUtilsM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dbh = MERconnect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ql = "show table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y $sth = $dbh-&gt;prepare( $sql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mproving upon dump_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1598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sth-&gt;execu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MER database contains the following tables:\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my @row = $sth-&gt;fetchrow_array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each my $column_value ( @row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\t$column_valu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sth-&gt;finis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dbh-&gt;disconnec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Improving upon dump_results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MER database contains the following t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rossre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how_tables2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re are 22 cross references in the datab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4336 is cross referenced with J017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8332 is cross referenced with J017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8654 is cross referenced with M150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20102 is cross referenced with X0340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Q52107 is cross referenced with AF213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3830 is cross referenced with J017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Q52109 is cross referenced with AF213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20102 is cross referenced with J0173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Q52106 is cross referenced with AF21301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4337 is cross referenced with K030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protein P08664 is cross referenced with M150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Out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which_crossrefs - nicely displayed list of protein-&gt;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ross refere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Utils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dbh = MERconnect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ql = "select * from crossrefs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th = $dbh-&gt;prepare( $sql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Out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3640" y="2101680"/>
            <a:ext cx="936648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exec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re are ", $sth-&gt;rows, " cross references in the database.\n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@row = $sth-&gt;fetchrow_arra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protein $row[0] is cross referenced with $row[1]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finis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dbh-&gt;disconn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Out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1011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( $protein, $dna ) = $sth-&gt;fetchrow_arra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protein $protein is cross referenced with $dna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$row = $sth-&gt;fetchrow_hashref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protein $row-&gt;{ ac_protein } is cross referenced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with $row-&gt;{ ac_dna }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lternatives to fetchrow_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y Program Databases?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3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fetchrow_hashref to guard against changes to the structure of a database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vide a protein accession number to cross reference ('quit' to end)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033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 found: there is no cross reference for that protein in the 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vide a protein accession number to cross reference ('quit' to end)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p043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und: P04337 is cross referenced with J0173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vide a protein accession number to cross reference ('quit' to end)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521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ound: Q52109 is cross referenced with AF21301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vide a protein accession number to cross reference ('quit' to end)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x65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Not found: there is no cross reference for that protein in the databa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rovide a protein accession number to cross reference ('quit' to end):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9800" y="2101320"/>
            <a:ext cx="91598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pecific_crossref - allow for the "interactive" chec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of crossrefs from the command-l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Keep going until the user enters "quit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Utils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TRUE =&gt;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dbh = MERconnect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ql = qq/ select ac_dna from crossrefs where ac_protein = ? 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th = $dbh-&gt;prepare( $sql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185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TR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\nProvide a protein accession number to cross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reference ('quit' to end)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protein2find = &l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omp $protein2fi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protein2find = uc $protein2fin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protein2find eq 'QUIT'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a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In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39800" y="2138040"/>
            <a:ext cx="9339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execute( $protein2find 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dna = $sth-&gt;fetchrow_arra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finis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!$dna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Not found: there is no cross reference for that protein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in the database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Found: $protein2find is cross referenced with $dna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dbh-&gt;disconn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ustomizing Input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9440" y="1922040"/>
            <a:ext cx="860724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The 'db_match_embl' program - check a sequence against each EMB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database entry stored in the d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table within the MER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lib "$ENV{'HOME'}/bbp/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UtilsM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TRUE =&gt;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FALSE =&gt;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dbh = MERconnect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ql = qq/ select accession_number, sequence_dat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equence_length from dnas /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th = $dbh-&gt;prepare( $sql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tending 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7520" y="2101320"/>
            <a:ext cx="949320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TRUE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equence_found = FALS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Please enter a sequence to check ('quit' to end): 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to_check = &lt;&gt;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homp( $to_check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to_check = lc $to_check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to_check =~ /^quit$/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las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exec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ile ( my ( $ac, $sequence, $sequence_length ) = $sth-&gt;fetchrow_array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equence =~ s/\s*//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tending SQL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$sequence =~ /$to_check/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equence_found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The EMBL entry in the database: "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ac, " contains: $to_check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[Lengths: ", length $sequ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"/$sequence_length]\n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if ( !$sequence_found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No match found in database for: $to_check.\n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finis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dbh-&gt;disconn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Extending SQL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lease enter a sequence to check ('quit' to end)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att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EMBL entry in the database: AF213017 contains: aattg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Lengths: 6838/683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lease enter a sequence to check ('quit' to end)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att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EMBL entry in the database: AF213017 contains: aatt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Lengths: 6838/6838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EMBL entry in the database: J01730 contains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atttc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[Lengths: 5747/5747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lease enter a sequence to check ('quit' to end)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ccttaaatttgtacgt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 match found in database for: accttaaatttgtacgt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lease enter a sequence to check ('quit' to end)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4440" y="911520"/>
            <a:ext cx="9093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db_match_embl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3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t all possible, avoid the use of database driver ``enhancements'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7040" y="2101680"/>
            <a:ext cx="94633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man D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man DBD::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find `perl -Te 'print "@INC"' ` -name '*.pm' -print | grep 'DBI.pm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find `perl -Te 'print "@INC"' ` -name '*.pm' -print | grep 'mysql.pm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locate DBI.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 locate mysql.p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eparing Pe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072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check_drivers - check which drivers are installed with DB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@drivers = DBI-&gt;available_driver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oreach my $driver ( @driver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"Driver: $driver installed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Checking the DBI insta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724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show_tables - list the tables within the MER datab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# Uses "DBI::dump_results" to display resul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DBI qw( :utils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ATABASE =&gt; "DBI:mysql:MER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B_USER =&gt; "bbp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use constant DB_PASS =&gt; "passwordhere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dbh = DBI-&gt;connect( DATABASE, DB_USER, DB_PAS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r die "Connect failed: ", $DBI::errstr, ".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ql = "show tables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$sth = $dbh-&gt;prepare( $sql 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exec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rint dump_results( $sth ), "\n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sth-&gt;finish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$dbh-&gt;disconnec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1120" y="910080"/>
            <a:ext cx="95918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gramming Databases With DB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3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sure to adhere to any established naming conventions within a programming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chmod +x show_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 ./show_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itation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rossref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dna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proteins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 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how_tabl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13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oid littering programs with username/password combi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