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The Sequence Retrieval System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EBI's web-based sequence retrieva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EBI's SRS Database Selection Pag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gSRS_OPENING.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20840" y="2033640"/>
            <a:ext cx="7493040" cy="538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Why Study SRS?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9800" y="2101680"/>
            <a:ext cx="8607240" cy="10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http://srs.ebi.co.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Using SR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9440" y="514440"/>
            <a:ext cx="8607240" cy="14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EBI's SRS Extended Query Pag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gSRS_EXTENDED.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320840" y="2033640"/>
            <a:ext cx="7493040" cy="538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axim 14.1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't create a new data format unless absolutely necessary. Use an existing format whenever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EBI's SRS BlastP Service Form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gSRS_BLAST.e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08240" y="2021040"/>
            <a:ext cx="751824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Where To From Her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