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eb Technolog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Using the Internet to publish data an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086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hattimeisit - create a dynamic web page that includ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current date/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GI qw( :standard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start_html( 'What Date and Time Is It?'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The current date/time is: ", scalar localti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_htm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dynamic creation of WWW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DOCTYPE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"-//W3C//DTD XHTML 1.0 Transitional//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http://www.w3.org/TR/xhtml1/DTD/xhtml1-transitional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 xmlns="http://www.w3.org/1999/xhtml" lang="en-US" xml:lang="en-U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&lt;title&gt;What Date and Time Is It?&lt;/title&gt;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body&gt;The current date/time is: Mon Aug 25 23:21:55 2003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whattimeisit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DOCTYPE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"-//W3C//DTD XHTML 1.0 Transitional//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http://www.w3.org/TR/xhtml1/DTD/xhtml1-transitional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 xmlns="http://www.w3.org/1999/xhtml" lang="en-US" xml:lang="en-U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&lt;title&gt;What Date and Time Is It?&lt;/title&gt;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body&gt;The current date/time is: Tue Aug 26 08:04:23 2003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nd some time later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5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Always enable ``taint mode'' for server-sid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kconfig --add ht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kconfig http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locate httpd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eparing Apache For 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etc/httpd/conf/httpd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rverAdmin root@local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ocumentRoot "/var/www/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var/www/html/index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riptAlias /cgi-bin/ "/var/www/cgi-bin/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onfiguring Ap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etc/init.d/httpd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localhos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Ap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5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Test your web-site on localhost prior to deployment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whattimeisit /var/www/cgi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/var/www/cgi-bin/whattime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esting the execution of server-side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Server Error'' web page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SERVERERROR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46040" y="2008080"/>
            <a:ext cx="744228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61960"/>
            <a:ext cx="8607240" cy="13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Web Development Infra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541080"/>
            <a:ext cx="860724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What Date and Time Is it?'' web page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SERVERTIM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82680" y="2031840"/>
            <a:ext cx="756936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20448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The 'match_emblCGI' program - check a sequence against the EM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atabase entry stored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mbl.data.out data-file o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eb se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GI qw/:standard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head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EMBLENTRY, "embl.data.ou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No data-file: have you executed prepare_embl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equence = &lt;EMBLENTRY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EMBLENT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ending Data To A Web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800" y="2064960"/>
            <a:ext cx="91598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start_html( "The results of your search are in!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Length of sequence is: &lt;b&gt;", length $sequ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&lt;/b&gt; characters.&lt;p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h3( "Here is the result of your search: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to_check = param( "shortsequence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to_check = lc $to_che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sequence =~ /$to_check/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Found. The EMBL data extract contains: &lt;b&gt;$to_check&lt;/b&gt;.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Sorry. No match found for: &lt;b&gt;$to_check&lt;/b&gt;.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p, hr,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Press &lt;b&gt;Back&lt;/b&gt; on your browser to try another search.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end_htm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atch_emblCGI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TITLE&gt;Search the Sequence for a Match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 sequence to match against: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FORM ACTION="/cgi-bin/match_emblCGI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textarea name="shortsequence" rows="4" cols="60"&gt;&lt;/textare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input type="reset" value="Clea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input type="submit" value="Try it!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 Search HTML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541080"/>
            <a:ext cx="860724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Search the Sequence for a Match'' web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44520" y="1982880"/>
            <a:ext cx="76453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mersearch.html /var/www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match_emblCGI /var/www/cgi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/var/www/cgi-bin/match_embl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embl.data.out /var/www/cgi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3120" y="910080"/>
            <a:ext cx="9196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CGIs on a Web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541080"/>
            <a:ext cx="860724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Results of your search are in!'' web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FOUN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82680" y="2011320"/>
            <a:ext cx="756936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561960"/>
            <a:ext cx="8607240" cy="13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Sorry! Not Found'' web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SORRY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9000" y="2006640"/>
            <a:ext cx="741672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&lt;&lt;MERFOR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ease enter another sequence to match against: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FORM ACTION="/cgi-bin/match_emblCGIbett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textarea name="shortsequence" rows="4" cols="60"&gt;&lt;/textare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input type="reset" value="Clea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input type="submit" value="Try it!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a HERE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406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etter version: ``Results of your search are in!'' web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BETTER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46040" y="2033640"/>
            <a:ext cx="744228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reating Content For The WW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2101680"/>
            <a:ext cx="86072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 algn="ct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http://www.htmlprim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eb Databa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541080"/>
            <a:ext cx="860724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arching all the entries in the dnas tab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MULTI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46040" y="1996920"/>
            <a:ext cx="744228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541080"/>
            <a:ext cx="860724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``results'' of the multiple search on the dnas tab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figMERSEARCHMULTIRESULTS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38240" y="1952640"/>
            <a:ext cx="6551640" cy="55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mersearchmulti.html /var/www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db_match_emblCGI /var/www/cgi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/var/www/cgi-bin/db_match_embl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DbUtilsMER.pm /var/www/cgi-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DB Multi-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5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Take the time to lear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TITLE&gt;A Simple HTML Page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s simple a web page as ther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 Simple HTML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2044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produce_simple - produces the "simple.html" web pag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 HER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&lt;&lt;WEBP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TITLE&gt;A Simple HTML Page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s simple a web page as ther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ducing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175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produce_simpleCGI - produces the "simple.html" web pag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Perl's standard CGI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GI qw( :standard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start_html( 'A Simple HTML Page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This is as simple a web page as there is.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_htm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ducing HTML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DOCTYPE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"-//W3C//DTD XHTML 1.0 Transitional//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"http://www.w3.org/TR/xhtml1/DTD/xhtml1-transitional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tml xmlns="http://www.w3.org/1999/xhtml" lang="en-US" xml:lang="en-U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head&gt;&lt;title&gt;A Simple HTML Page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head&gt;&lt;body&gt;This is as simple a web page as there is.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911520"/>
            <a:ext cx="9175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produce_simpleCG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5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Create static web pages either manually or vis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