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eb Autom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Perl to automate web surf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y Automate Surfing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58720" y="1994040"/>
            <a:ext cx="952200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The 'automatch' program - check a collection of sequences again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the 'mersearchmulti.html' web p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constant URL =&gt; "http://pblinux.itcarlow.ie/mersearchmulti.ht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WWW::Mechaniz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browser = WWW::Mechanize-&gt;new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my $seq = &lt;&gt;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homp( $seq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Now processing: '$seq'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automatch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2101320"/>
            <a:ext cx="951228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browser-&gt;get( URL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browser-&gt;form( 1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browser-&gt;field( "shortsequence", $seq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browser-&gt;submi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$browser-&gt;succes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content = $browser-&gt;conte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$content =~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[&lt;tr align="CENTER" /&gt;&lt;td&gt;(\w+?)&lt;/td&gt;&lt;td&gt;yes&lt;/td&gt;]g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\tAccession code: $1 matched '$seq'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Something went wrong: HTTP status code: 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browser-&gt;status, "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004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automatch program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mod +x auto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automatch sequences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9800" y="911520"/>
            <a:ext cx="943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unning the automatch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9800" y="2030400"/>
            <a:ext cx="9339120" cy="53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processing: 'attccgattagggcgt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processing: 'aattc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ccession code: AF213017 matched 'aattc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ccession code: J01730 matched 'aattc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ccession code: M24940 matched 'aattc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processing: 'aatgggc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processing: 'aaattt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ccession code: AF213017 matched 'aaattt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ccession code: J01730 matched 'aaattt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ccession code: M24940 matched 'aaattt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processing: 'acgatccgcaagtagcaacc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ccession code: M15049 matched 'acgatccgcaagtagcaacc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processing: 'gggcccaaa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processing: 'atcgatcg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processing: 'tcatgcacctgatgaacgtgcaaaaccacag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ccession code: AF213017 matched 'tcatgcacctgatgaacgtgcaaaaccacag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processing: 'ccaaat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ccession code: AF213017 matched 'ccaaat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ccession code: J01730 matched 'ccaaat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ccession code: M24940 matched 'ccaaat'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7004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automatch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Viewing the source of the mersearchmulti.html web pag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MERSEARCHSOURCE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71600" y="210024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6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tomate repetitive WWW interactions whenever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