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pplicatio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standard Bioinformatics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web-based interface to GeneMark as running at EBI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EBIGENEBANK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73240" y="1968480"/>
            <a:ext cx="634860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Using BLAST to identify specific sequenc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Dealing with false negatives and missing protei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Over predicted genes and false positiv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://www.expasy.org/swissmo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Structural Prediction With SWISS-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18.2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ajor limitation of ``homology modelling'' is that homology to a known structure i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lternatives to homology modellin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delling with SWISS-MODEL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SWISS-MODEL predicted structure of ORF2/MerP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ORF2MERP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311120" y="2122560"/>
            <a:ext cx="7874280" cy="52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333333"/>
                </a:solidFill>
                <a:latin typeface="Arial"/>
              </a:rPr>
              <a:t>The SWISS-MODEL predicted structure of ORF2/MerP, second version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ORF2MERP2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60360" y="2425680"/>
            <a:ext cx="7975800" cy="42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SWISS-MODEL predicted structure of ORF3/MerA (A)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ORF3MERAA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49200" y="2116080"/>
            <a:ext cx="7925040" cy="50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SWISS-MODEL predicted structure of ORF3/MerAB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ORF3MERAB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32120" y="1925640"/>
            <a:ext cx="649764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SWISS-MODEL predicted structure of ORF6/TNR5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ORF6TNR5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09600" y="214308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DeepView as a Structural Alignment Tool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9440" y="201600"/>
            <a:ext cx="8607240" cy="16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333333"/>
                </a:solidFill>
                <a:latin typeface="Arial"/>
              </a:rPr>
              <a:t>The ORF2 and ORF3_A structures loaded into DeepView prior to structural alignment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DEEPVIEW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54040" y="2075040"/>
            <a:ext cx="74422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DeepView's Iterative Magic Fit dialogue box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DEEPVIEWDIALOG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23920" y="2044800"/>
            <a:ext cx="6432840" cy="53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333333"/>
                </a:solidFill>
                <a:latin typeface="Arial"/>
              </a:rPr>
              <a:t>Structural Alignment created using the DeepView's Iterative Magic Fit facility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DEEPVIEWEXAMPLE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82840" y="2444760"/>
            <a:ext cx="73152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Selecting the current ``layer'' in DeepView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DEEPLAYER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73200" y="2170080"/>
            <a:ext cx="7061040" cy="50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Possible Explanation Behind MerA/HMA Duplication Even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POSSIBLE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892160" y="3022560"/>
            <a:ext cx="635004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201600"/>
            <a:ext cx="8607240" cy="16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333333"/>
                </a:solidFill>
                <a:latin typeface="Arial"/>
              </a:rPr>
              <a:t>The structural alignment of ORF3_B and the ``official'' Mercury Reductase X-ray structure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CYSTEINES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84360" y="2043000"/>
            <a:ext cx="71118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201600"/>
            <a:ext cx="8607240" cy="16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333333"/>
                </a:solidFill>
                <a:latin typeface="Arial"/>
              </a:rPr>
              <a:t>The overall plan for the regeneration of high quality annotation information as contained in the EMBL disk-file ISTN501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WHAT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98600" y="2952720"/>
            <a:ext cx="5537160" cy="27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18.3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mology modelling can only model protein sequences similar to those which are already 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PROSITE and Sequence Motif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18.4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rching large datasets with non-specific, short sequence fragments results in many false pos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://www.expasy.org/prosit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://www.ebi.ac.uk/interpr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://www.geneontology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://www.kegg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Using PROSITE patterns and matr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Phylogenetic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 look at the HMA domain of MerA and MerP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9800" y="2101680"/>
            <a:ext cx="9175680" cy="44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------------------------------- 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SWISS-PROT IDs of MerP Proteins SWISS-PROT IDs of MerA Prote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------------------------------- 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MERP_ACICA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MERA_AC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MERP_ALCSP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MERA_ALC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MERP_PSEAE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MERA_BAC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MERP_PSEFL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MERA_EN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MERP_SALTI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MERA_PSE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MERP_SERMA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MERA_PSEF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MERP_SHEPU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MERA_SE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MERP_SHIFL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MERA_SHE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MERA_SHIF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MERA_STA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MERA_STR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MERA_TH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------------------------------- 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160" y="406440"/>
            <a:ext cx="930420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multiple sequence alignment of the example protei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LISTMERAMERP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57560" y="1925640"/>
            <a:ext cx="5884560" cy="56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EBI's tree graphical displa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TREE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77960" y="2651040"/>
            <a:ext cx="8940600" cy="34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18.5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ever you make a statem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ll for more research (money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18.6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base annotation is hard to do well, so be prepared to update it on a regular b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Scientific Background To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er Oper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tic Structure and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bility Of The Mer Ope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18.7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tomation can be very helpful when creating annotation, but to achieve the highest quality, humans are needed to make some value judg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18.8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 are based on the available data which, in this case, is the database annotation (which may or may not be curr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ere To From Here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principal proteins and their functio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PRINCIPLE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52760" y="1932120"/>
            <a:ext cx="541008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Downloading The Raw DNA Sequen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Initial BLAST Sequence Similarity Search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18.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BLAST scores, up is down and lower is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://opal.biology.gatech.edu/GeneMar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GeneM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