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ata Visualis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icture is worth a thousand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test image produced by the GD modu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TTF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17880" y="2193840"/>
            <a:ext cx="6045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GD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GD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G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image = new GD::Image( 100, 10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white = $image-&gt;colorAllocate( 255, 255, 25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black = $image-&gt;colorAllocate( 0,     0,  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red   = $image-&gt;colorAllocate( 255,   0,  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blue  = $image-&gt;colorAllocate( 0,     0, 25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mage-&gt;transparent( $whit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mage-&gt;interlaced( 'true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mage-&gt;rectangle( 0, 0, 99, 99, $black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mage-&gt;arc( 50, 50, 95, 75, 0, 360, $bl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mage-&gt;fill( 50, 50, $red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inmode STD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image-&gt;p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GD module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sample image plan for a ``heat map''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IXPLAN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92080" y="2317680"/>
            <a:ext cx="871236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9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plans avoids problems before problems su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isplaying genes in EMBL entr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A plot of the interesting genes identified in EMBL entry ISTN501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EMBLPLO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640" y="3746520"/>
            <a:ext cx="9525240" cy="11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imagemagick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ogrify -resize 1600 Embl_sequence_graphi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ogrify -resize x100 Embl_sequence_graphi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mogr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Embl_sequence_graphic.png Embl_sequence_graphic.original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ogrify -resize 1600 Embl_sequence_graphi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troducing mogr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difference between resampling and resizing. This is resized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RESIZE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1880" y="2305080"/>
            <a:ext cx="6477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difference between resampling and resizing. This is resampled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RESAMPLE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30520" y="2319480"/>
            <a:ext cx="70354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Visualis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lotting Graph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raph plotting using the GD::Graph modu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ample line graph from the GD::Graph modu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GRAPHEXAMPLE1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48080" y="1917720"/>
            <a:ext cx="540540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ample pie chart from the GD::Graph modu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GRAPHEXAMPLE2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89160" y="20574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raph plotting using Gr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800" y="2101680"/>
            <a:ext cx="86072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http://plasma-gate.weizmann.ac.il/Gra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GUI-based Grace application progra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GRACESHO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2800" y="2033640"/>
            <a:ext cx="734076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``Absorbance'' image as produced by Chart::Graph::Xmgrac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PERLGRAC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31800" y="1933560"/>
            <a:ext cx="743436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9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are processing tools, too, especially when it comes to processing visu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isplaying Tabular Data Using HTM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ample HTML visualisation: identifying amino acid stat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IX1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23960" y="1974960"/>
            <a:ext cx="716436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ample HTML visualisation: grouping amino aci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IX2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60680" y="1969920"/>
            <a:ext cx="705312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isplaying SWISS-PROT identifi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2101680"/>
            <a:ext cx="8607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w|Q52109|MERA_ACICA Mercuric reduct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TTLKITGMTCDSCAAHVKEALEK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Overview of the Mer Operon proteins in the SWISS-PROT databas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ERTABLEHTML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69920" y="1916280"/>
            <a:ext cx="675972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Makefil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tf.pl |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High Quality Graphics With 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