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etting The Technological Scen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l's relationship to operating systems and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Layers of Technolog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ert layers diagram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27160" y="2239920"/>
            <a:ext cx="802620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ere is perl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ing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ing for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4160" y="4046400"/>
            <a:ext cx="860760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 whereis p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perl: /usr/bin/perl /usr/share/man/man1/perl.1.g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 which p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/usr/bin/p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/usr/local/bin/p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