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Introducing Bioperl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ward the Bioinformatics Perl programmer's nirv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blast_result = blast_sequence( $seq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rite_blast( $filename, $blast_result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Remote BLAST Searc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axim 20.2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bine Bioperl with other tools to get your work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blastcl3 -i ./seqs/P00392.fsa -d swissprot -p blastp 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gt; Swiss-Prot.NetBlast_P00392.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39800" y="562320"/>
            <a:ext cx="860724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A quick aside: the blastcl3 NetBlast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9339120" cy="48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! /usr/bin/perl -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Blast_parse.pl - post-process/parse BLAST outp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se stric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se Bio::SearchI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$bls_report = shif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$in = new Bio::SearchIO( -format =&gt; 'blast', -file =&gt; $bls_report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hile ( my $result = $in-&gt;next_result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hile( my $hit = $result-&gt;next_hit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"Hit = ", $hit-&gt;name, "\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The Blast_parse.pl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./Blast_parse.pl Swiss-Prot.NetBlast_P00392.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Parsing BLAST outpu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it = sp|P00392|MERA_PSE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it = sp|P94702|MERA_ENT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it = sp|Q52109|MERA_AC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it = sp|P94188|MERA_AL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it = sp|P08332|MERA_SHIF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it = sp|Q51772|MERA_PSEF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it = sp|P17239|MERA_TH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it = sp|Q54465|MERA_SHE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it = sp||P08662_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it = sp|P30341|MERA_STR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Results from Blast_parse.pl .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Where To From Her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ttp://www.bioperl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What Is Bioper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39440" y="514440"/>
            <a:ext cx="860724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Bioperl's Relationship To Project Ensembl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9800" y="2101680"/>
            <a:ext cx="8607240" cy="13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http://www.ensembl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tar -zxvf current_core_stable.tar.g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tar -zxvf current_run_stable.tar.g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perl Makefile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ma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make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make inst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&lt;Ctrl-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perl -MCPAN -e "shell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cpan&gt; install Bundle::BioPe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cpan&gt; 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&lt;Ctrl-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Installing Biope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91314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! /usr/bin/perl -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simple_get_sequence.pl - a simple Bioperl example program, whi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downloads SWISS-PROT sequen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se stric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se Bio::Per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$ID = shif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$Sequence = get_sequence( 'swiss', $ID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rite_sequence( "&gt;./seqs/$ID.swp", 'swiss', $Sequence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rite_sequence( "&gt;./seqs/$ID.fsa", 'fasta', $Sequence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9800" y="562320"/>
            <a:ext cx="860724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Using Bioperl: Fetching Sequ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mkdir seq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chmod +x simple_get_sequence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./simple_get_sequence.pl P003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./simple_get_sequence.pl P003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./simple_get_sequence.pl MERA_PSE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diff seqs/P00392.fsa seqs/MERA_PSEAE.f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diff seqs/P00392.swp seqs/MERA_PSEAE.sw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perldoc Bio/Perl.p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8480" y="910080"/>
            <a:ext cx="93139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Results of Fetching Sequences .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9339120" cy="48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! /usr/bin/perl -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Multi_Seq_Get.pl - when provided with a list of IDs, download th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se stric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se Bio::Per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hile ( my $ID = &lt;&gt;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homp( $ID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"Fetching Sequence: $ID.\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$Sequence = get_sequence( 'swiss', $ID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rite_sequence( "&gt;./seqs/$ID.swp", 'swiss', $Sequence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rite_sequence( "&gt;./seqs/$ID.fsa", 'fasta', $Sequence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The Multi_Seq_Get.pl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./Multi_Seq_Get.pl Merp_IDs.l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./Multi_Seq_Get.pl Mera_IDs.l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Fetching multiple sequ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axim 20.1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't reinvent the wheel. Use Bioperl whenever poss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