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Basic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with Perl for Bioinformatics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mod u+x welcom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welcom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welcom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800" y="83880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ogram: run thyself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4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's more than one way to d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ter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forever' program - a (Perl)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which does not stop until someone presses Ctrl-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TRUE =&gt;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FALSE =&gt;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TRU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Welcome to the Wonderful World of Bioinformatics!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leep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the Perl while constr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mod u+x fo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fo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forever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5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comments to make future maintenance of a program easier for other programmers and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6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constant values, refer to them with a nice, human-friendly name as opposed to the actual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blocks to group program statement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Iterat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8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ndition can result in a value of 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Welcome to the Wonderful World of Bioinformatics!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Let's Get Start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ntroducing variable containe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800" y="2101680"/>
            <a:ext cx="86072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_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programming_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9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you need to change the value of an item, use a variable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10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't be lazy: use good, descriptive names for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tentimes' program - a (Perl)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which stops after ten it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HOWMANY =&gt;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$count &lt; HOWMAN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Welcome to the Wonderful World of Bioinformatics!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Variable containers and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mod u+x ten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ten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to the Wonderful World of Bioinfor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tentimes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elec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1360" y="1778040"/>
            <a:ext cx="936936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fivetimes' program - a (Perl)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which stops after five it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TRUE =&gt;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FALSE =&gt;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HOWMANY =&gt;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TRU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Welcome to the Wonderful World of Bioinformatics!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$count == HOWMAN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the Perl if constr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3320" y="1665360"/>
            <a:ext cx="8607600" cy="61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oddeven' program - a (Perl)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which iterates four times, printing 'odd' when $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is an odd number, and 'even' when $count is an e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num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HOWMANY =&gt;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$count &lt; HOWMAN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$count == 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odd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if ( $count == 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even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800" y="85284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re Really Is MTOWT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if ( $count == 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odd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 # at this point $count is f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even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800" y="85284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oddeven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terrible' program - a poorly formatted 'oddeven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HOWMANY =&gt; 4; $cou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$count &lt; HOWMANY ) { $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$count == 1 ) { print "odd\n"; } elsif ( $count == 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 print "even\n"; } elsif ( $count == 3 ) { print "odd\n"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 # at this point $count is f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 print "even\n"; }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9800" y="85284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terribl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Welcome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o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e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Wonderful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World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of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Bioinformatics!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nother version of welc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1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plenty of whitespace, blank-lines and indentation to make your programs easier to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4880" y="1741320"/>
            <a:ext cx="937584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oddeven2' program - another version of 'oddeven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HOWMANY =&gt;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$count &lt; HOWMAN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$count % 2 ==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even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 # $count % 2 is not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odd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800" y="85284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oddeven2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5 % 2, "\n"; # prints a '1' on a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4 % 2, "\n"; # prints a '0' on a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7 % 4, "\n"; # prints a '3' on a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800" y="85284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the modulus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oddeven3' program - yet another version of 'oddeven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HOWMANY =&gt;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$count &lt; HOWMAN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even\n" if ( $count % 2 ==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odd\n" if ( $count % 2 !=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9800" y="85284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oddeven3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line = &lt;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getlines' program which processes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$line = &lt;&gt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9800" y="90360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ocessing Data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mod u+x ge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ge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800" y="90540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getlines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getlines terr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getlines terrible welcome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sking getlines to do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patterns' program - introducing regular expr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$line = &lt;&gt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line if $line =~ /even/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ntroducing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patterns terr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terrible' program - a poorly formatted 'oddeven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 print "even\n"; } elsif ( $count == 3 ) { print "odd\n"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 print "even\n"; }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patterns odd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oddeven' program - a (Perl)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is an odd number, and 'even' when $count is an e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even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even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patterns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1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terns tell perl what to look for, not how to fin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ams execute in sequentia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s is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3.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can say something with fewer words, then do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-c wel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syntax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wel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Perl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ring found where operator expected at welcome line 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ear "pint "Welcome to the Wonderful World of Bioinformatics!\n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o you need to predeclare pint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ntax error at welcome line 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ear "pint "Welcome to the Wonderful World of Bioinformatics!\n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lcome had compilation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Perl – Syntax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; "Welcome to the Wonderful World of Bioinformatics!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yntax an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800" y="3525840"/>
            <a:ext cx="93391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 perl wh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 perl -c -w wh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Useless use of a constant in void context at whoops line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whoops syntax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