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4640" y="1893960"/>
            <a:ext cx="9674280" cy="566568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38140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68560"/>
            <a:ext cx="182520" cy="919080"/>
          </a:xfrm>
          <a:custGeom>
            <a:avLst/>
            <a:gdLst>
              <a:gd name="textAreaLeft" fmla="*/ 360 w 182520"/>
              <a:gd name="textAreaRight" fmla="*/ 182160 w 182520"/>
              <a:gd name="textAreaTop" fmla="*/ 360 h 919080"/>
              <a:gd name="textAreaBottom" fmla="*/ 918720 h 919080"/>
            </a:gdLst>
            <a:ahLst/>
            <a:rect l="textAreaLeft" t="textAreaTop" r="textAreaRight" b="textAreaBottom"/>
            <a:pathLst>
              <a:path w="21600" h="108595">
                <a:moveTo>
                  <a:pt x="189" y="0"/>
                </a:moveTo>
                <a:arcTo wR="189" hR="189" stAng="16200000" swAng="-5400000"/>
                <a:lnTo>
                  <a:pt x="0" y="108406"/>
                </a:lnTo>
                <a:arcTo wR="189" hR="189" stAng="10800000" swAng="-5400000"/>
                <a:lnTo>
                  <a:pt x="21411" y="108595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Places To Put Thing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oring Perl's Built-In Variable Containers: Arrays and Has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3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re are three main contexts in Perl: numeric, list and sca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@sequences, 'CTATGCGGT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CTATGCGGT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elements to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@sequences, ( 'CTATGCGGTA', 'CTATTATGTC' 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 CTATTATG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_1 = ( 'TTATTATGTT',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_2 = (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combined_sequences = ( @sequence_1, @sequence_2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combined_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GCTCAGTTCT GACCTCT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more elements to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TTATTATGTT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removed_elements = splice @sequences, 1,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removed_element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CTCAGTTCT GACCTCT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TTATTATG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moving elements from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dnas[ 1, 4, 9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dnas[ 1 .. 9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licing ar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slices' program - slicing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TATGCGGTA', 'ATCTGACCTC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_slice = @sequences[ 1 .. 3 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_slic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removed = splice @sequences, 1,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removed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slices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 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 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slic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4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cess a list of values from an array, use a s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5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remove a list of values from an array, use spl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800" y="2064960"/>
            <a:ext cx="919008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pushpop' program - pushing, popping, shif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and unshif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TATGCGGTA', 'ATCTGACCTC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ast = pop @sequ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first = shift @sequ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nshift @sequences, $la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sh @sequences, ( $first, $last 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sequenc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ushing, popping, shifting and unshif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Beyond Scalar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48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 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 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TCTGACCTC GCTCAGTTCT GACCTCTTAA 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TCTGACCTC GCTCAGTTCT GACCTCTTAA CTATGCGGTA TTATTATGTT 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pushpop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iterateW' program - iterate over an entire arr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ith 'while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TATGCGGTA', 'ATCTGACCTC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ast_index = $#sequenc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index &lt;= $last_index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sequences[ $index ]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++$inde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every element in an arr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TATTATG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CTCAGTT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ACCTCTT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TATGCGG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TCTGACC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iterateW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iterateF' program - iterate over an entire arr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with 'foreach'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TATGCGGTA', 'ATCTGACCTC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each $value ( @sequence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valu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iterateF pro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6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foreach to process every element in a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'TTATTATGTT', 'GCTCAGTTCT', 'GACCTCTTAA'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CTATGCGGTA', 'ATCTGACCTC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( TTATTATGTT, GCTCAGTTCT, GACCTCTTA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TATGCGGTA, ATCTGACCTC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sequences = qw( TTATTATGTT GCTCAGTTCT GACCTCTT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TATGCGGTA ATCTGACCTC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Making lists easier to work wi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9440" y="544320"/>
            <a:ext cx="86072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Hashes: Associating Data With Word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800" y="2101680"/>
            <a:ext cx="8607240" cy="16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%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%gen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%nucleotide_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xi Sans"/>
              </a:rPr>
              <a:t>%nucleotide_bases = ( A, Adenine, T, Thymin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7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hash is a collection of name/value pai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%nucleotide_bases Ha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hash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692440" y="3543480"/>
            <a:ext cx="4749840" cy="157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8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sh name-parts must be u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9440" y="2101680"/>
            <a:ext cx="96109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list_of_sequ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protein_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 'TTATTATGTT', 'GCTCAGTTCT', 'GACCTCTTAA'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list_of_sequences = ( 'TTATTATGTT', 'GCTCAGTTCT', 'GACCTCTTAA'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rrays: Associating Data With 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expanded name for 'A' is $nucleotide_bases{ 'A' }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hash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7520" y="2064960"/>
            <a:ext cx="949320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nucleotide_bases = ( A, Adenine, T, Thym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hash_names = keys %nucleotide_ba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names in the %nucleotide_bases hash are: @hash_name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names in the %nucleotide_bases hash are: A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nucleotide_bases = ( A, Adenine, T, Thym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hash_size = keys %nucleotide_bas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size of the %nucleotide_bases hash is: $hash_size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ize of the %nucleotide_bases hash is: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How big is the h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nucleotide_bases{ 'G' } = 'Guanine'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nucleotide_bases{ 'C' } = 'Cytosine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nucleotide_bases = ( A =&gt; Adenine, T =&gt; Thym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 =&gt; Guanine, C =&gt; Cytos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Adding entries to a h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39440" y="544320"/>
            <a:ext cx="86072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Grown %nucleotide_bases Ha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hash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76440" y="3227400"/>
            <a:ext cx="5181840" cy="25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lete $nucleotide_bases{ 'G'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nucleotide_bases{ 'C' } = unde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moving entries from a h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28480" y="2160360"/>
            <a:ext cx="955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gene_counts = ( Human =&gt; 31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Thale cress' =&gt; 26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Nematode worm' =&gt; 18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Fruit fly' =&gt; 13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ast =&gt; 6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Tuberculosis microbe' =&gt; 400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@counts = @gene_counts{ Human, 'Fruit fly', 'Tuberculosis microbe'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@counts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Slicing ha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39800" y="2101680"/>
            <a:ext cx="933912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bases' program - a hash of the nucleotide b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nucleotide_bases = ( A =&gt; Adenine, T =&gt; Thymin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 =&gt; Guanine, C =&gt; Cytosine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sequence = 'CTATGCGGT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\nThe sequence is $sequence, which expands to:\n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$sequence =~ /(.)/g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\t$nucleotide_bases{ $1 }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hash entries: a complet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sequence is CTATGCGGTA, which expan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ytos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Gua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ym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800" y="91152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bas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92487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! /usr/bin/perl -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# The 'genes' program - a hash of gene 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 constant LINE_LENGTH =&gt;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%gene_counts = ( Human =&gt; 31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Thale cress' =&gt; 26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Nematode worm' =&gt; 18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Fruit fly' =&gt; 13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Yeast =&gt; 600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'Tuberculosis microbe' =&gt; 4000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9800" y="562320"/>
            <a:ext cx="8607240" cy="13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Processing every entry in a ha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41360" y="2101680"/>
            <a:ext cx="963936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'-' x LINE_LENGTH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while ( ( $genome, $count ) = each %gene_coun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`$genome' has a gene count of $count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'-' x LINE_LENGTH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foreach $genome ( sort keys %gene_coun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`$genome' has a gene count of $gene_counts{ $genome }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'-' x LINE_LENGTH,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The genes program,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1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s in Perl are comma-separated collections of scal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Human' has a gene count of 3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Tuberculosis microbe' has a gene count of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Fruit fly' has a gene count of 1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Nematode worm' has a gene count of 1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Yeast' has a gene count of 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Thale cress' has a gene count of 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Fruit fly' has a gene count of 13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Human' has a gene count of 3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Nematode worm' has a gene count of 18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Thale cress' has a gene count of 2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Tuberculosis microbe' has a gene count of 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`Yeast' has a gene count of 6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Results from genes 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Where To From He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@list_of_sequences Arra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array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82880" y="3241800"/>
            <a:ext cx="4368960" cy="24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Maxim 4.2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rl starts counting from zero, not 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$list_of_sequences[1]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st_of_sequences[1] = 'CTATGCGGT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$list_of_sequences[3] = 'GGTCCATGAA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9800" y="91008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Working with array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544320"/>
            <a:ext cx="860724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The Grown @list_of_sequences Array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ert array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387520" y="2876400"/>
            <a:ext cx="535932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array size is: ", $#list_of_sequences+1, "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rint "The array size is: ", scalar @list_of_sequences, ".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The array size is: 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9800" y="852840"/>
            <a:ext cx="860724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  <a:ea typeface="Luxi Sans"/>
              </a:rPr>
              <a:t>How big is the arr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