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-216000" algn="ctr"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4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104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Getting Organised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routines, modules and the wonder of CP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is is the first_drawline prog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ts purpose is to demonstrate the first version of drawl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orry, but it is not very exci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39800" y="91152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Results from first_drawline ..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11000" y="1836360"/>
            <a:ext cx="8607240" cy="53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$_[0]"; # The first parame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$_[1]"; # The second parame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$_[2]"; # The third parameter, and so 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b drawlin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$_[0] x $_[1], "\n"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rawlin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rawline "-", REPEAT_COU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rawline( "-", REPEAT_COUNT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rawline "=", REPEAT_COU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rawline( "-o0o-", 12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rawline "- ", 3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rawline( "&gt;&gt;==&lt;&lt;==", 8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Processing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39440" y="2043000"/>
            <a:ext cx="923436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! /usr/bin/perl -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second_drawline - the second demonstration program for "drawline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use constant REPEAT_COUNT =&gt; 6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b drawlin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$_[0] x $_[1], "\n"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This is the second_drawline program.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rawline "-", REPEAT_COU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Its purpose is to demonstrate the second versio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rawline.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39800" y="91152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Using the new draw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rawline "-", REPEAT_COU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Sorry, but it is still not exciting. However, it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ore useful.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rawline "=", REPEAT_COU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rawline "-o0o-", 1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rawline "- ", 3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rawline "&gt;&gt;==&lt;&lt;==", 8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39800" y="561960"/>
            <a:ext cx="8607240" cy="13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The second_drawline program,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933912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is is the second_drawline prog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ts purpose is to demonstrate the second version of drawl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orry, but it is still not exciting. However, it is more usefu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o0o--o0o--o0o--o0o--o0o--o0o--o0o--o0o--o0o--o0o--o0o--o0o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 - - - - - - - - - - - - - - - - - - - - - - - - - - - -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&gt;&gt;==&lt;&lt;==&gt;&gt;==&lt;&lt;==&gt;&gt;==&lt;&lt;==&gt;&gt;==&lt;&lt;==&gt;&gt;==&lt;&lt;==&gt;&gt;==&lt;&lt;==&gt;&gt;==&lt;&lt;==&gt;&gt;==&lt;&lt;=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39800" y="911520"/>
            <a:ext cx="91170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Results from second_drawline ..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39440" y="514440"/>
            <a:ext cx="8607240" cy="14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Better processing of parameter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39800" y="2101680"/>
            <a:ext cx="8607240" cy="39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shift; # Or like this: shif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sub draw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print shift() x shift(), "\n"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sub draw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$chars = shift || "-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$count = shift || REPEAT_COU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print $chars x $count, "\n"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rawline "=== ", 1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rawlin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rawline "=";       # Prints sixty equal sig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rawline "*";       # Prints sixty sta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rawline "$";       # Prints sixty dolla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rawline 40;        # Does NOT print forty dash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rawline 20, "-";   # Does NOT print twenty dash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Using the new drawline ..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42520" y="2101680"/>
            <a:ext cx="9536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! /usr/bin/perl -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fourth_drawline - the fourth demonstration program for "drawline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use constant REPEAT_COUNT =&gt; 6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b drawlin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chars = shift || "-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count = shift || REPEAT_COU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$chars x $count, "\n"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The fourth_drawline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91454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This is the fourth_drawline program.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rawlin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Its purpose is to demonstrate the fourth version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rawline.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rawlin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Sorry, but it is still not exciting. However, it is 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useful.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rawline "=", REPEAT_COU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rawline "-o0o-", 1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rawline "- ", 3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rawline "&gt;&gt;==&lt;&lt;==", 8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39800" y="562320"/>
            <a:ext cx="8607240" cy="13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The fourth_drawline program,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rawlin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rawline( Pattern =&gt; "*"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rawline( Count =&gt; 20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rawline( Count =&gt; 5, Pattern =&gt; " -oOo- "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rawline( Pattern =&gt; "===", Count =&gt; 10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9800" y="562320"/>
            <a:ext cx="8607240" cy="13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Even better processing of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933912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nt '-' x LINE_LENGTH, "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nt "=" x LINE_LENGTH, "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nt "-o0o-" x 12, "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nt "- " x 30, "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nt "&gt;&gt;==&lt;&lt;==" x 8, "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o0o--o0o--o0o--o0o--o0o--o0o--o0o--o0o--o0o--o0o--o0o--o0o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 - - - - - - - - - - - - - - - - - - - - - - - - - - - -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gt;&gt;==&lt;&lt;==&gt;&gt;==&lt;&lt;==&gt;&gt;==&lt;&lt;==&gt;&gt;==&lt;&lt;==&gt;&gt;==&lt;&lt;==&gt;&gt;==&lt;&lt;==&gt;&gt;==&lt;&lt;==&gt;&gt;==&lt;&lt;=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Named Blo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39440" y="514440"/>
            <a:ext cx="8607240" cy="14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The Default Array, @_, With Assigned Value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rt array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527200" y="2922480"/>
            <a:ext cx="5079960" cy="317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39440" y="514440"/>
            <a:ext cx="8607240" cy="14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The %arguments Hash, With Assigned Value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rt hash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120760" y="3203640"/>
            <a:ext cx="5892840" cy="210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%arguments = @_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chars = $arguments{ Pattern } || "-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count = $arguments{ Count } || REPEAT_COU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b drawlin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chars = $arguments{ Pattern } || "-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count = $arguments{ Count } || REPEAT_COU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$chars x $count, "\n"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Processing Named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0480" y="2101680"/>
            <a:ext cx="9390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! /usr/bin/perl -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fifth_drawline - the fifth demonstration program for "drawline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use constant REPEAT_COUNT =&gt; 6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b drawlin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%arguments = @_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chars = $arguments{ Pattern } || "-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count = $arguments{ Count } || REPEAT_COU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$chars x $count, "\n"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9800" y="91152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The fifth_drawline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This is the fifth_drawline program.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rawlin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Its purpose is to demonstrate the fifth version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rawline.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rawlin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Things are getting a little more interesting.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rawline( Pattern =&gt; "*"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rawline( Count =&gt; 20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rawline( Count =&gt; 5, Pattern =&gt; " -oOo- "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rawline( Pattern =&gt; "===", Count =&gt; 10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rawlin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800" y="562320"/>
            <a:ext cx="8607240" cy="13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The fifth_drawline program,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is is the fifth_drawline prog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ts purpose is to demonstrate the fifth version of drawl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ings are getting a little more interes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*********************************************************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oOo- -oOo- -oOo- -oOo- -oOo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=============================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39800" y="91152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Results from fifth_drawline ..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+---------------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|               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|               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|               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|               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|               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+---------------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+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rawline( Count =&gt; 15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+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+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800" y="562320"/>
            <a:ext cx="8607240" cy="13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A more flexible drawline subrout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+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rawline( Count =&gt; 15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+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+", drawline( Count =&gt; 15 ), "+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--------------+1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39800" y="91152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Not Quite Right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Returning result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39800" y="2101680"/>
            <a:ext cx="8607240" cy="23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sub draw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%arguments = @_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$chars = $arguments{ Pattern } || "-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$count = $arguments{ Count } || REPEAT_COU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return $chars x $coun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933912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! /usr/bin/perl -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boxes - the box drawing demonstration program for "drawline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use constant REPEAT_COUNT =&gt; 1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b drawlin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%arguments = @_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chars = $arguments{ Pattern } || "-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count = $arguments{ Count } || REPEAT_COU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eturn $chars x $coun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The boxes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Introducing Subroutine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+", drawline, "+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|", drawline( Pattern =&gt; " " ), "|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|", drawline( Pattern =&gt; " " ), "|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|", drawline( Pattern =&gt; " " ), "|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|", drawline( Pattern =&gt; " " ), "|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|", drawline( Pattern =&gt; " " ), "|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+", drawline, "+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The boxes program,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Maxim 5.2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determining the scope of a variable, think about its vis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9838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! /usr/bin/perl -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global_scope - the effect of "global" varia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b adjust_up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other_count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count at start of adjust_up: $count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count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count at end of adjust_up: $count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count = 1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count in main: $count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djust_u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count in main: $count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other_count in main: $other_count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Visibility and Sco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nt in main: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nt at start of adjust_up: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nt at end of adjust_up: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nt in main: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ther_count in main: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Results from global_scope ..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9339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! /usr/bin/per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private_scope - the effect of "my" varia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b adjust_up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y $other_count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count at start of adjust_up: $count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count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other_count within adjust_up: $other_count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count at end of adjust_up: $count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y $count = 1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count in main: $count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djust_u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count in main: $count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other_count in main: $other_count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Using private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nt in main: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nt at start of adjust_up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ther_count within adjust_up: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nt at end of adjust_up: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nt in main: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ther_count in mai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Results from private_scope ..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Maxim 5.3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less you have a really good reason not to, always declare your variables with 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! /usr/bin/pe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hybrid_scope - the effect of "our" varia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b adjust_up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y $other_count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count at start of adjust_up: $count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count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other_count within adjust_up: $other_count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count at end of adjust_up: $count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our $count = 1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count in main: $count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djust_u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count in main: $count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other_count in main: $other_count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Using global variables proper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nt in main: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nt at start of adjust_up: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ther_count within adjust_up: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nt at end of adjust_up: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nt in main: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ther_count in mai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Results from hybrid_scope ..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Maxim 5.4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must use a global variable, declare it with 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Maxim 5.1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ever you think you will reuse some code, create a subrout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b drawlin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y %arguments = @_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y $chars = $arguments{ Pattern } || "-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y $count = $arguments{ Count } || REPEAT_COU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eturn $chars x $coun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The final version of draw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man perlfu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perldoc -f sle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In-Built Subrout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39440" y="514440"/>
            <a:ext cx="8607240" cy="14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Grouping and Reusing Subroutine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Maxim 5.5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think you will reuse a subroutine, create a custom mod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! /usr/bin/perl -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use lib "$ENV{'HOME'}/bbp/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use UsefulUtil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rawlin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Mo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ackag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equire Export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our @ISA = qw( Exporter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our @EXPORT = qw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our @EXPORT_OK = qw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our %EXPORT_TAGS = 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our $VERSION = 0.0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1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Modules – Example Templ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28480" y="2101680"/>
            <a:ext cx="94600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ackage UsefulUtil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UsefulUtils.pm - the useful utilities module fr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"Bioinformatics, Biocomputing and Perl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equire Export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our @ISA = qw( Exporter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our @EXPORT = qw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our @EXPORT_OK = qw( drawline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our %EXPORT_TAGS = 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our $VERSION = 0.0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use constant REPEAT_COUNT =&gt; 6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The UsefulUtils Mo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4360" y="2087640"/>
            <a:ext cx="93394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b drawlin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Given: a character string and a repeat cou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Return: a string that contains the character str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"repeat count" number of ti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Notes: For maximum flexibility, this routine does N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include a newline ("\n") at the end of the l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y %arguments = @_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y $chars = $arguments{ Pattern } || "-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y $count = $arguments{ Count } || REPEAT_COU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eturn $chars x $coun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1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The UsefulUtils Module,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mkdir ~/bbp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cp UsefulUtils.pm ~/bbp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39800" y="91152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Installing UsefulUt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1360" y="2101680"/>
            <a:ext cx="95490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! /usr/bin/perl -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boxes2 - the box drawing demonstration program for "drawline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use lib "$ENV{'HOME'}/bbp/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use UsefulUtils qw( drawline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+", drawline( Count =&gt; 15 ), "+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|", drawline( Pattern =&gt; " ", Count =&gt; 15 ), "|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|", drawline( Pattern =&gt; " ", Count =&gt; 15 ), "|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|", drawline( Pattern =&gt; " ", Count =&gt; 15 ), "|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|", drawline( Pattern =&gt; " ", Count =&gt; 15 ), "|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|", drawline( Pattern =&gt; " ", Count =&gt; 15 ), "|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+", drawline( Count =&gt; 15 ), "+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39800" y="91152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Using UsefulUt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rawline "=", REPEAT_COU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rawline( "=", REPEAT_COUNT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rawlin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rawlin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Calling Subrout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man perlmodl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The Standard Mo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Maxim 5.6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't reinvent the wheel, use or extend a standard module whenever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11000" y="2882520"/>
            <a:ext cx="860724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ttp://www.cpan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CPAN: The Module Reposi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Maxim 5.7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't reinvent the wheel, use or extend a CPAN module whenever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Maxim 5.8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think others might benefit from a custom module you have written, upload it to CP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39440" y="2796840"/>
            <a:ext cx="860724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ttp://search.cpan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Searching CP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tar zxvf ExampleModule-0.03.tar.g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cd ExampleModule-0.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perl Makefile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m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make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s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make 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&lt;Ctrl-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39800" y="562320"/>
            <a:ext cx="8607240" cy="13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Installing a CPAN module manual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man Example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perl -e 'use ExampleModule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Can't locate ExampleModule.pm in @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BEGIN failed--compilation aborted at -e line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39800" y="91152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Testing the instal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perl -MCPAN -e "install 'ExampleModule'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39800" y="562320"/>
            <a:ext cx="8607240" cy="13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Installing a CPAN module automatical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Maxim 5.9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ys take the time to test downloaded CPAN modules for compliance to specific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raw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ind_a_seq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nvert_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y_subrou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emps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Naming Subrout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Where To From Her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b drawlin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b drawline {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b draw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b draw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39800" y="91152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Creating Subrout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b drawlin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-" x REPEAT_COUNT, "\n"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9800" y="91152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The drawline Subrout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84200" y="2101680"/>
            <a:ext cx="959472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! /usr/bin/perl -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first_drawline - the first demonstration program for "drawline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use constant REPEAT_COUNT =&gt; 6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ub drawlin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-" x REPEAT_COUNT, "\n"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This is the first_drawline program.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rawlin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Its purpose is to demonstrate the first ver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of drawline.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rawlin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Sorry, but it is not very exciting.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9800" y="91152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Using draw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Barry</cp:lastModifiedBy>
  <dcterms:modified xsi:type="dcterms:W3CDTF">2004-04-13T21:18:09Z</dcterms:modified>
  <cp:revision>1</cp:revision>
  <dc:subject/>
  <dc:title>Getting Organised</dc:title>
</cp:coreProperties>
</file>