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bout Fil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put, Output and Oth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6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a disk-file for as long as needed, but no lon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6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open a disk-file, be sure to close it la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( $linefromfirst, $linefromsecond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linefromfirst = &lt;FIRSTFILE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linefromsecond = &lt;SECONDFILE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ading a line from each of the disk-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1560" y="2101680"/>
            <a:ext cx="9477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merge2files - merge the two disk-files named on the command-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$#ARGV != 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ie "Please supply the names of two disk-fil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command-line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( $first_filename, $second_filename ) = @ARG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nless ( -e $first_filename &amp;&amp; -f $first_filename &amp;&amp; -r $first_filenam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ie "$first_filename cannot be accessed. Does it exist?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1998720"/>
            <a:ext cx="958068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nless ( -e $second_filename &amp;&amp; -f $second_filename &amp;&amp; -r $second_filenam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ie "$second_filename cannot be accessed. Does it exist?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FIRSTFILE, "$first_filenam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uld not open $first_filename. Aborting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SECONDFILE, "$second_filenam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uld not open $second_filename. Aborting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( $linefromfirst, $linefromsecond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$linefromfirst = &lt;FIRSTFILE&gt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linefromsecond = &lt;SECONDFILE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$linefromfir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$linefromseco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ose FIRSTFI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ose SECONDFI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merge2files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5920" y="2042640"/>
            <a:ext cx="96044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chmod +x merge2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./merge2files first_file.txt second_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is is the first disk-file, lin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is is the second disk-file, lin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is is the first disk-file, line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is is the second disk-file, line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is is the first disk-file, lin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is is the second disk-file, lin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is is the first disk-file, line 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Use of uninitialized value in print at merge2files line 35, &lt;SECONDFILE&gt; lin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Use of uninitialized value in print at merge2files line 35, &lt;SECONDFILE&gt; lin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is is the first disk-file, line 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Use of uninitialized value in print at merge2files line 35, &lt;SECONDFILE&gt; lin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Use of uninitialized value in print at merge2files line 35, &lt;SECONDFILE&gt; lin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merge2files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merge2files second_file.txt first_file.t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merge2files again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!eof( SECONDFILE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linefromsecond = &lt;SECONDFILE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linefromseco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reating merge2files_v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merge2files_v2 first_file.txt second_fil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merge2files_v2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2880" y="911520"/>
            <a:ext cx="934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merge2files_v2 again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/O: Input and Outpu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0">
              <a:lnSpc>
                <a:spcPct val="104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andard streams: STDIN, STDOUT and STD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2520" y="2101680"/>
            <a:ext cx="9536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merge2files_v3 - third version of merge2files: merge the disk-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named on the command-line (with some help from eof and defin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Make sure all lines are read from both disk-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$#ARGV != 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ie "Please supply the names of two disk-fil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command-line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( $first_filename, $second_filename ) = @ARG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nless ( -e $first_filename &amp;&amp; -f $first_filename &amp;&amp; -r $first_filenam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ie "$first_filename cannot be accessed. Does it exist?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reating merge2files_v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4200" y="2630160"/>
            <a:ext cx="95947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nless ( -e $second_filename &amp;&amp; -f $second_filename &amp;&amp; -r $second_filenam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ie "$second_filename cannot be accessed. Does it exist?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FIRSTFILE, "$first_filenam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uld not open $first_filename. Aborting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SECONDFILE, "$second_filenam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uld not open $second_filename. Aborting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( $linefromfirst, $linefromsecond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merge2files_v3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080" y="2101680"/>
            <a:ext cx="95662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$linefromfirst = &lt;FIRSTFILE&gt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$linefromfir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!eof( SECONDFILE 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linefromsecond = &lt;SECONDFILE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$linefromseco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!eof( SECONDFILE 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linefromsecond = &lt;SECONDFILE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$linefromseco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ose FIRSTFI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ose SECONDFI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800" y="5641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merge2files_v3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entire_file = &lt;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lur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800" y="1954080"/>
            <a:ext cx="9339120" cy="560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slurper - a program which demonstrates disk-file "slurping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lib "$ENV{'HOME'}/bbp/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UsefulUtils qw( drawline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FIRSTSLURPFILE, "first_file.tx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uld not open first slurp disk-file. Aborting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SECONDSLURPFILE, "second_file.tx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uld not open second slurp disk-file. Aborting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@linesfromfirst = &lt;FIRSTSLURPFILE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@linesfromsecond = &lt;SECONDSLURPFILE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drawline( Count =&gt; 40 ), "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@linesfromfir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drawline( Count =&gt; 40 ), "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@linesfromseco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drawline( Count =&gt; 40 ), "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ose FIRSTSLURPFI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ose SECONDSLURPFI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lurp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slurper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631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file_to_open = "errors.log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( LOGFILE, "&gt;$file_to_open"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uld not write to/create errors log disk-file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( LOGFILE, "&gt;&gt;$file_to_open"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uld not append to/create errors log disk-file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LOGFILE "Error: something terrible has happened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riting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2520" y="2101680"/>
            <a:ext cx="9536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./merge2files first_file.txt second_file.txt &gt; merge.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./merge2files first_file.txt second_file.txt &gt;&gt; merge.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./merge2files first_file.txt second_file.txt &gt; merge.out 2&gt; merge.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./merge2files first_file.txt second_file.txt &gt;&gt; merge.out 2&gt;&gt; merge.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directing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1454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sequence = "TTATTATGTT GCTCAGTTCT GACCTCTTAA CTATGCGGTA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e sequence is: $sequence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'The sequence is: $sequence\n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sequence is: TTATTATGTT GCTCAGTTCT GACCTCTTAA CTATGCGG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sequence is: $sequence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Variable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9440" y="1866960"/>
            <a:ext cx="860724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dna = "ATGTGCGGTATTGCTGACCTCTTA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last = chop $dn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$dna is now "ATGTGCGGTATTGCTGACCTCTTA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next = chop $dn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$dna is now "ATGTGCGGTATTGCTGACCTCTT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dna = "ATGTGCGGTATTGCTGACCTCTTA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last = chomp $dn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$dna is now "ATGTGCGGTATTGCTGACCTCTTA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next = chomp $dn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$dna is still "ATGTGCGGTATTGCTGACCTCTTA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hopping and chom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data = &lt;STDIN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data = &lt;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STDOUT $d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d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STDERR "Something terrible has happened ... aborting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arn "Something terrible has happened ... aborting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TDIN, STDOUT and STDER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ading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 disk-file, li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 disk-file, line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Merging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8480" y="2101680"/>
            <a:ext cx="9552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determine_args - print out the names of the disk-files nam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on the command-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$#ARGV != 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arn "Please supply the names of two disk-files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mmand-line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( $first_filename, $second_filename ) = @ARG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first disk-file name is: $first_filename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second disk-file name is: $second_filename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8480" y="910080"/>
            <a:ext cx="8607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Determining the disk-file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first_filename = $ARGV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second_filename = $ARGV[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first_filename = shif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second_filename = shif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determine_args first_file.txt second_fil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irst disk-file name is: first_fil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cond disk-file name is: second_fil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8480" y="911520"/>
            <a:ext cx="8607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Default Argument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8480" y="2101320"/>
            <a:ext cx="955224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heck_args - check that the disk-files nam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on the command-line ex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$#ARGV != 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ie "Please supply the names of two disk-fil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command-line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( $first_filename, $second_filename ) = @ARG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nless ( -e $first_filename &amp;&amp; -f $first_filename &amp;&amp; -r $first_filenam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ie "$first_filename cannot be accessed. Does it exist?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nless ( -e $second_filename &amp;&amp; -f $second_filename &amp;&amp; -r $second_filenam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ie "$second_filename cannot be accessed. Does it exist?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Opening named disk-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9800" y="2101680"/>
            <a:ext cx="887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FIRSTFILE, "$first_filename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SECONDFILE, "$second_filename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FIRSTFILE, "&lt;$first_filename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SECONDFILE, "&lt;$second_filename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FIRSTFILE, "$first_filenam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uld not open $first_filename. Aborting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pen SECONDFILE, "$second_filenam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uld not open $second_filename. Aborting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ose FIRSTFI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ose SECONDFI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check_args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