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atterns, Patterns and More Patter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iting Perl's built-in regular expression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1000" y="2092320"/>
            <a:ext cx="860724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0|1|2|3|4|5|6|7|8|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0123456789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aeiou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a|e|i|o|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^aeiou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0123456789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0-9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a-z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A-Z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-A-Z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BCFHST][aeiou][mty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o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u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BbCcFfHhSsTt][aeiou][mty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Metacharacter shorthand and charact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0-9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\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a-zA-Z0-9_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\w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\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^ \t\n\r\f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\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0-9][^ \t\n\r\f][a-zA-Z0-9_][a-zA-Z0-9_][^0-9]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\d\s\w\w\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More metacharacter short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7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egular expression shorthand to reduce the risk of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\w+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\d\s\w+\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\d\s\w{2}\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\d\s\w{2,4}\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\d\s\w{2,}\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More re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Bb]art?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Bb]art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t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ttttttttttttttttttt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p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? and * optional meta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Bb]ar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b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[Bb]ar.?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any character meta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ncho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\bbark\b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at dog sure has a loud bark, doesn't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at dog's barking is driving me craz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\Bbark\B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\b word boundary meta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^Bioinformatic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oinformatics, Biocomputing and Perl is a great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a great introduction to Bioinformatics, 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orhouse, Barry (200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^ start-of-line meta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Perl$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 favourite programming language is 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 Perl your favourite programming langu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^$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$ end-of-line meta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attern Basic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regular ex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179880"/>
            <a:ext cx="962352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/eve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eleven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# matches at end of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eventually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# matches at start of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even Stevens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# matches twice: an entire word and within 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heaven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# 'a' breaks the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Even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# uppercase 'E' breaks the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EVEN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# all uppercase breaks the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eveN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# uppercase 'N' breaks the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leave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# not even clos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Steve not here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Luxi Sans"/>
              </a:rPr>
              <a:t># space between 'Steve' and 'not' breaks the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4248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simplepat' program - simple regular expression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&lt;&gt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Got a blank line.\n" if /^$/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Line has a curly brace.\n" if /[}{]/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Line contains 'program'.\n" if /\bprogram\b/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Binding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simplepat simple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ot a blank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 contains 'program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ot a blank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 has a curly b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 has a curly b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 contains 'program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 has a curly b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simplepat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$line =~ /^$/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$line !~ /^$/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o Match or Not To Match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2101680"/>
            <a:ext cx="95522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(ela)+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grouping' program - demonstrates the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of parenth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my $line = &lt;&gt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line =~ /\w+ (\w+) \w+ (\w+)/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Second word: '$1' on line $..\n" if defined $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Fourth word: '$2' on line $..\n" if defined $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membering What Was Match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a sample file for us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grouping program that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 the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tterns and More Patterns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rom Bioinformatics, Biocomputing and Pe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grouping test.group.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cond word: 'is' on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urth word: 'sample' on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cond word: 'grouping' on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urth word: 'that' on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cond word: 'and' on line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urth word: 'Patterns' on line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grouping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170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grouping2' program - demonstrates the effe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re parenth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my $line = &lt;&gt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line =~ /\w+ ((\w+) \w+ (\w+))/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ree words: '$1' on line $..\n" if defined $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Second word: '$2' on line $..\n" if defined $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Fourth word: '$3' on line $..\n" if defined $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grouping2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ee words: 'is a sample' on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ond word: 'is' on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urth word: 'sample' on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ee words: 'grouping program that' on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ond word: 'grouping' on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urth word: 'that' on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ee words: 'and More Patterns' on line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ond word: 'and' on line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urth word: 'Patterns' on line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grouping2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7.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nested parentheses, count the opening parentheses, starting with the leftmost, to determine which parts of the pattern are assigned to which after-match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(.+), Bar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 over here, now, Bart! Do you hear me, B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 over here, now, Bart! Do you hea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(.+?), Bar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 over here,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Greedy By 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39440" y="2030040"/>
            <a:ext cx="8607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usr/bin/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\w+/\w+/\w+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\/\w+\/\w+\/\w+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\/(\w+)\/(\w+)\/(\w+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#/\w+/\w+/\w+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#/(\w+)/(\w+)/(\w+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&lt;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[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ev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/ev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lternative Pattern Delim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 $pattern = "eve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 $string = "do the words heaven and eleven match?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find_it( $pattern, $string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"A match was found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"No match was found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hat makes regular expressions so spe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biodb2mysql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Given: a date in DD-MMM-YYYY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Return: a date in YYYY-MM-DD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 $original = shif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original =~ /(\d\d)-(\w\w\w)-(\d\d\d\d)/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 ( $day, $month, $year ) = ( $1, $2, $3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nother Useful Ut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01' if $month eq 'JAN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02' if $month eq 'FEB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03' if $month eq 'MAR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04' if $month eq 'APR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05' if $month eq 'MAY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06' if $month eq 'JUN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07' if $month eq 'JUL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08' if $month eq 'AUG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09' if $month eq 'SEP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10' if $month eq 'OCT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11' if $month eq 'NOV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onth = '12' if $month eq 'DEC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$year . '-' . $month . '-' . $d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biodb2mysql subroutine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(\d{2})-(\w{3})-(\d{4}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(\d+)-(\w+)-(\d+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lternate biodb2mysql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/these/thos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ive me some of these, these, these and these. Tha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ive me some of those, these, these and these. Tha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/these/those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ive me some of those, those, those and those. Tha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/these/those/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ubstitutions: Search And Re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/^\s+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/\s+$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/\s+/ 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ubstituting for whit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7040" y="2101680"/>
            <a:ext cx="9372600" cy="47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ccacagatt acaggaagtc atatttttag acctaaatca ctatcctcta tctttcagca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gaaaagaac atctacttgg tttcgttccc tatccaagat tcagatggtg aaacgagtga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catgcacct gatgaacgtg caaaaccaca gtcaagccat gacaaccccg atctacagtt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catctgtct gtatccgcaa cctaaaatca gtgctttaga agccgtggac attgatttag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66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tacgtgtag agcaagactt aaatttgtac gtgaaactaa aagccagttg tatgcattag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67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tttttcaat ttgtataacg tataacgtat ataatgttaa ttttagattt tcttacaact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67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gatttaaaa gtttaagatt catgtattta tattttatgg ggggacatga atagatct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68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$sequence =~ /acttaaatttgtacgtg/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/\s*\d+$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/\s*/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Finding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prepare_embl' program - getting embl.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ready for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&lt;&gt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/\s*\d+$//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/\s*//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prepare_embl embl.data &gt; embl.dat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wc embl.dat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 1 6838 embl.dat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prepare_embl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2101680"/>
            <a:ext cx="9580680" cy="54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match_embl' program - check a sequence again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EMBL database entry stored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embl.data.out data-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TRUE =&gt;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pen EMBLENTRY, "embl.data.ou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r die "No data-file: have you executed prepare_embl?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sequence = &lt;EMBLENTRY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ose EMBLENT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Length of sequence is: ", length $sequen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 characters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TRU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match_embl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9800" y="1941480"/>
            <a:ext cx="94600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\nPlease enter a sequence to check.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ype 'quit' to end: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to_check = &lt;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omp( $to_check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to_check = lc $to_che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$to_check =~ /^quit$/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$sequence =~ /$to_check/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e EMBL data extract contains: $to_check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No match found for: $to_check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match_embl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58720" y="1914120"/>
            <a:ext cx="952200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match_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ength of sequence is: 6838 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ease enter a sequence to che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ype 'quit' to end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aatttggg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 match found for: aaatttgggc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ease enter a sequence to che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ype 'quit' to end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GGGGG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 match found for: cagggggg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ease enter a sequence to che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ype 'quit' to end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catgcacctgatgaacgtgcaaaaccacagtcaagcca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EMBL data extract contains: tcatgcacctgatgaacgtgcaaaaccacagtcaagccat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ease enter a sequence to che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ype 'quit' to end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match_embl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 $string = "do the words heaven and eleven match?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$string =~ /even/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"A match was found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"No match was found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find_it the Perl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7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regular expression to specify what you want to find, not how to fin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ntroducing The Pattern Metacharacte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T+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TT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an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tttttt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+ repetition meta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ela+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(ela)+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aelaela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\(ela\)+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la)))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la(ela(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More re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0|1|2|3|4|5|6|7|8|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1234567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re's a 0 in here som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 telephone number is: 212-555-10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a|b|c|d|e|f|g|h|i|j|k|l|m|n|o|p|q|r|s|t|u|v|w|x|y|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A|B|C|D|E|F|G|H|I|J|K|L|M|N|O|P|Q|R|S|T|U|V|W|X|Y|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| alternation meta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dcterms:modified xsi:type="dcterms:W3CDTF">2004-04-13T21:21:55Z</dcterms:modified>
  <cp:revision>1</cp:revision>
  <dc:subject/>
  <dc:title>Patterns, Patterns and More Patterns</dc:title>
</cp:coreProperties>
</file>