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Perl Grabbag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useful bits'n'pieces that every Perl programmer should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487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rw-rw-r-- 1 barryp barryp 403 Aug 16 16:48 pinv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rw-rw-r-- 1 barryp barryp 145 Aug 7 12:36 prepare_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rw-rw-r-- 1 barryp barryp 422 Jul 22 15:10 private_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result of the system call was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result of the backticks call was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rw-rw-r-- 1 barryp barryp 403 Aug 16 16:48 pinv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rw-rw-r-- 1 barryp barryp 145 Aug 7 12:36 prepare_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rw-rw-r-- 1 barryp barryp 422 Jul 22 15:10 private_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result of the qx// call was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rw-rw-r-- 1 barryp barryp 403 Aug 16 16:48 pinv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rw-rw-r-- 1 barryp barryp 145 Aug 7 12:36 prepare_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rw-rw-r-- 1 barryp barryp 422 Jul 22 15:10 private_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pinvoke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4876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first_filename = "itdoesnotexist.txt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pen FIRSTFILE, "$first_filenam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r die "Could not open $first_filename. Aborting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first_filename = "itdoesnotexist.txt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pen FIRSTFILE, "$first_filenam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r die "Could not open $first_filename. Aborting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( $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Calling eval produced this message: $@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covering From Err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8.2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eval to protect potentially errone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1560" y="2101680"/>
            <a:ext cx="9477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sortexamples - how Perl's in-built sort subroutine wor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@sequences = qw( gctacataat attgttttta aattatattc cgatgcttgg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Before sorting:\n\t-&gt; @sequences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@sorted = sort @sequenc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@reversed = sort { $b cmp $a } @sequenc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@also_reversed = reverse sort @sequence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Sorted order (default):\n\t-&gt; @sorted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Reversed order (using sort { \$b cmp \$a }):\n\t-&gt; @reversed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Reversed order (using reverse sort):\n\t-&gt; @also_reversed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fore sor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gctacataat attgttttta aattatattc cgatgctt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orted order (defaul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aattatattc attgttttta cgatgcttgg gctacat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versed order (using sort { $b cmp $a }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gctacataat cgatgcttgg attgttttta aattatat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versed order (using reverse sor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gctacataat cgatgcttgg attgttttta aattatat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sortexamples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84200" y="2101680"/>
            <a:ext cx="95947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@chromosomes = qw( 17 5 13 21 1 2 22 15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Before sorting:\n\t-&gt; @chromosomes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@sorted = sort { $a &lt;=&gt; $b } @chromosom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@reversed = sort { $b &lt;=&gt; $a } @chromosom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Sorted order (using sort { \$a &lt;=&gt; \$b }):\n\t-&gt; @sorted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Reversed order (using sort { \$b &lt;=&gt; \$a }):\n\t-&gt; @reversed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Another Sort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fore sor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17 5 13 21 1 2 22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orted order (using sort { $a &lt;=&gt; $b }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1 2 5 13 15 17 21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versed order (using sort { $b &lt;=&gt; $a }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&gt; 22 21 17 15 13 5 2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And its results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sortfile - sort the lines in any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@the_fi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 &lt;&gt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o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sh @the_file, $_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@sorted_file = sort @the_fi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each my $line ( @sorted_fil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$line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sortfil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Zap! Zoom! Bang! Ba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tman, look o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obin, behind yo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aaaah, it's the Riddl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 sortfile sort.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aaaah, it's the Riddl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atman, look o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obin, behind yo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Zap! Zoom! Bang! Ba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sort sort.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sortfile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doc -f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an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Learning More About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bestrict - demonstrating the effect of strict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message = "This is the message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$messag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Strict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8.3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the time to become familiar with the utilities included in the opera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hotgun Seq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a relatively simple method of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genome sequence. It is ''simple'' 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t does away with the need to loc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dividual DNA fragments on a map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y are sequenc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Shotgun Sequencing method relie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owerful computers to assemble the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qu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HERE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Shotgun Sequencing\n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This is a relatively simple method of reading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a genome sequence. It is ''simple'' because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it does away with the need to locate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individual DNA fragments on a map before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they are sequenced.\n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The Shotgun Sequencing method relies on\n"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powerful computers to assemble the finished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sequence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Without HERE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shotgun_message = &lt;&lt;ENDSHOTMS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hotgun Seq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a relatively simple method of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genome sequence. It is ''simple'' 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t does away with the need to loc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dividual DNA fragments on a map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y are sequenc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Shotgun Sequencing method relie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owerful computers to assemble the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qu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SHOT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$shotgun_messag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With HERE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&lt;&lt;ENDSHOTMS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hotgun Seq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a relatively simple method of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 genome sequence. It is ''simple'' 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t does away with the need to loc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dividual DNA fragments on a map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y are sequenc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Shotgun Sequencing method relie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owerful computers to assemble the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qu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SHOT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Even Better HERE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ere To From He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9680" y="2101680"/>
            <a:ext cx="9666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Global symbol "$message" requires explicit package name at bestrict line 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Global symbol "$message" requires explicit package name at bestrict line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xecution of bestrict aborted due to compilation err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bstric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message = "This is the message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Using “my” To Fix bestr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8.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less you have a really good reason not to, always switch on strictness at the top of your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 -e 'use ExampleModule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 -e 'print "Hello from a Perl one-liner.\n";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 -e 'printf "%0.2f\n", 30000 * .12;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doc -f prin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doc -f sprin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Perl One-Li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 -ne 'print if /ctgaatagcc/;' embl.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 &lt;&gt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if /ctgaatagcc/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grep 'ctgaatagcc' embl.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Perl One-Liners: Equival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7520" y="2101680"/>
            <a:ext cx="9493200" cy="50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 -npe 'last if /\d{4}$/;' embl.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 &lt;&gt;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ast if /\d{4}$/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inu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$_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 grep -v '[0123456789][0123456789][0123456789][0123456789]$' embl.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800" y="911520"/>
            <a:ext cx="92487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Perl One-Liners: More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58720" y="2101680"/>
            <a:ext cx="95220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pinvoke - demonstrating the invocation of other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from Per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result = system( "ls -l p*"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The result of the system call was as follows:\n$result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result = `ls -l p*`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The result of the backticks call was as follows:\n$result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result = qx/ls -l p*/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The result of the qx// call was as follows:\n$result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unning Other Programs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From pe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