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Downloading Datase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tching datasets from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Let's Get Dat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2101680"/>
            <a:ext cx="860724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http://www.embos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n w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Downloading From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Using wget to download PDB data-fi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2130480"/>
            <a:ext cx="95122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$ mkdir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$ cd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$ wget ftp://ftp.rcsb.org/pub/pdb/data/structures/all/pdb1m7t.ent.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$ wget ftp://ftp.rcsb.org/pub/pdb/data/structures/all/pdb1lqt.ent.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$ gzip -d pdb1m7t.ent.Z pdb1lqt.ent.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7120" y="2101680"/>
            <a:ext cx="9453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wget --mirror ftp://ftp.rcsb.org/pub/pdb/data/structures/all/p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Mirroring a 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9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download a dataset when absolutely necessary. Consider the implications of doing so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8480" y="2101680"/>
            <a:ext cx="95522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ructures/ftp.rcsb.org/pub/pdb/data/structures/all/p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wget --output-file=log --mirror --http-user=anonym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http-passwd=email@where.ever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directory-prefix=structures/mmC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no-host-direct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cut-dirs=6 ftp://ftp.rcsb.org/pub/pdb/data/structures/all/p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Smarter mirr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3280" y="2101680"/>
            <a:ext cx="94870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wget ftp://beta.rcsb.org/pub/pdb/uniformity/data/mmCIF/all/1ger.cif.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Downloading a subset of a 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dcterms:modified xsi:type="dcterms:W3CDTF">2004-05-01T12:26:31Z</dcterms:modified>
  <cp:revision>1</cp:revision>
  <dc:subject/>
  <dc:title>Downloading Datasets</dc:title>
</cp:coreProperties>
</file>